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7.jpeg" ContentType="image/jpeg"/>
  <Override PartName="/ppt/media/image126.png" ContentType="image/png"/>
  <Override PartName="/ppt/media/image125.png" ContentType="image/png"/>
  <Override PartName="/ppt/media/image124.png" ContentType="image/png"/>
  <Override PartName="/ppt/media/image122.wmf" ContentType="image/x-wmf"/>
  <Override PartName="/ppt/media/image120.wmf" ContentType="image/x-wmf"/>
  <Override PartName="/ppt/media/image53.png" ContentType="image/png"/>
  <Override PartName="/ppt/media/image159.jpeg" ContentType="image/jpeg"/>
  <Override PartName="/ppt/media/image118.png" ContentType="image/png"/>
  <Override PartName="/ppt/media/image117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44.jpeg" ContentType="image/jpeg"/>
  <Override PartName="/ppt/media/image102.png" ContentType="image/png"/>
  <Override PartName="/ppt/media/image99.png" ContentType="image/png"/>
  <Override PartName="/ppt/media/image166.wmf" ContentType="image/x-wmf"/>
  <Override PartName="/ppt/media/image98.png" ContentType="image/png"/>
  <Override PartName="/ppt/media/image165.wmf" ContentType="image/x-wmf"/>
  <Override PartName="/ppt/media/image97.png" ContentType="image/png"/>
  <Override PartName="/ppt/media/image29.png" ContentType="image/png"/>
  <Override PartName="/ppt/media/image164.wmf" ContentType="image/x-wmf"/>
  <Override PartName="/ppt/media/image123.jpeg" ContentType="image/jpeg"/>
  <Override PartName="/ppt/media/image96.png" ContentType="image/png"/>
  <Override PartName="/ppt/media/image55.jpeg" ContentType="image/jpeg"/>
  <Override PartName="/ppt/media/image95.png" ContentType="image/png"/>
  <Override PartName="/ppt/media/image93.png" ContentType="image/png"/>
  <Override PartName="/ppt/media/image92.png" ContentType="image/png"/>
  <Override PartName="/ppt/media/image24.png" ContentType="image/png"/>
  <Override PartName="/ppt/media/image130.jpeg" ContentType="image/jpeg"/>
  <Override PartName="/ppt/media/image91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27.jpeg" ContentType="image/jpeg"/>
  <Override PartName="/ppt/media/image111.png" ContentType="image/png"/>
  <Override PartName="/ppt/media/image52.png" ContentType="image/png"/>
  <Override PartName="/ppt/media/image10.png" ContentType="image/png"/>
  <Override PartName="/ppt/media/image107.png" ContentType="image/png"/>
  <Override PartName="/ppt/media/image7.png" ContentType="image/png"/>
  <Override PartName="/ppt/media/image37.png" ContentType="image/png"/>
  <Override PartName="/ppt/media/image23.jpeg" ContentType="image/jpeg"/>
  <Override PartName="/ppt/media/image86.png" ContentType="image/png"/>
  <Override PartName="/ppt/media/image18.png" ContentType="image/png"/>
  <Override PartName="/ppt/media/image39.png" ContentType="image/png"/>
  <Override PartName="/ppt/media/image64.jpeg" ContentType="image/jpeg"/>
  <Override PartName="/ppt/media/image112.png" ContentType="image/png"/>
  <Override PartName="/ppt/media/image6.wmf" ContentType="image/x-wmf"/>
  <Override PartName="/ppt/media/image108.png" ContentType="image/png"/>
  <Override PartName="/ppt/media/image11.png" ContentType="image/png"/>
  <Override PartName="/ppt/media/image48.png" ContentType="image/png"/>
  <Override PartName="/ppt/media/image138.jpeg" ContentType="image/jpeg"/>
  <Override PartName="/ppt/media/image36.png" ContentType="image/png"/>
  <Override PartName="/ppt/media/image47.jpeg" ContentType="image/jpeg"/>
  <Override PartName="/ppt/media/image90.wmf" ContentType="image/x-wmf"/>
  <Override PartName="/ppt/media/image41.png" ContentType="image/png"/>
  <Override PartName="/ppt/media/image46.png" ContentType="image/png"/>
  <Override PartName="/ppt/media/image143.jpeg" ContentType="image/jpeg"/>
  <Override PartName="/ppt/media/image147.jpeg" ContentType="image/jpeg"/>
  <Override PartName="/ppt/media/image50.png" ContentType="image/png"/>
  <Override PartName="/ppt/media/image153.jpeg" ContentType="image/jpeg"/>
  <Override PartName="/ppt/media/image167.png" ContentType="image/png"/>
  <Override PartName="/ppt/media/image70.png" ContentType="image/png"/>
  <Override PartName="/ppt/media/image142.jpeg" ContentType="image/jpeg"/>
  <Override PartName="/ppt/media/image151.png" ContentType="image/png"/>
  <Override PartName="/ppt/media/image8.png" ContentType="image/png"/>
  <Override PartName="/ppt/media/image30.png" ContentType="image/png"/>
  <Override PartName="/ppt/media/image14.jpeg" ContentType="image/jpeg"/>
  <Override PartName="/ppt/media/image57.png" ContentType="image/png"/>
  <Override PartName="/ppt/media/image160.jpeg" ContentType="image/jpeg"/>
  <Override PartName="/ppt/media/image146.jpeg" ContentType="image/jpeg"/>
  <Override PartName="/ppt/media/image83.png" ContentType="image/png"/>
  <Override PartName="/ppt/media/image73.jpeg" ContentType="image/jpeg"/>
  <Override PartName="/ppt/media/image45.png" ContentType="image/png"/>
  <Override PartName="/ppt/media/image162.jpeg" ContentType="image/jpeg"/>
  <Override PartName="/ppt/media/image168.png" ContentType="image/png"/>
  <Override PartName="/ppt/media/image71.png" ContentType="image/png"/>
  <Override PartName="/ppt/media/image141.png" ContentType="image/png"/>
  <Override PartName="/ppt/media/image13.jpeg" ContentType="image/jpeg"/>
  <Override PartName="/ppt/media/image139.png" ContentType="image/png"/>
  <Override PartName="/ppt/media/image42.png" ContentType="image/png"/>
  <Override PartName="/ppt/media/image133.jpeg" ContentType="image/jpeg"/>
  <Override PartName="/ppt/media/image54.png" ContentType="image/png"/>
  <Override PartName="/ppt/media/image140.png" ContentType="image/png"/>
  <Override PartName="/ppt/media/image137.png" ContentType="image/png"/>
  <Override PartName="/ppt/media/image15.jpeg" ContentType="image/jpeg"/>
  <Override PartName="/ppt/media/image40.png" ContentType="image/png"/>
  <Override PartName="/ppt/media/image136.png" ContentType="image/png"/>
  <Override PartName="/ppt/media/image158.png" ContentType="image/png"/>
  <Override PartName="/ppt/media/image161.jpeg" ContentType="image/jpeg"/>
  <Override PartName="/ppt/media/image134.jpeg" ContentType="image/jpeg"/>
  <Override PartName="/ppt/media/image43.png" ContentType="image/png"/>
  <Override PartName="/ppt/media/image38.jpeg" ContentType="image/jpeg"/>
  <Override PartName="/ppt/media/image129.jpeg" ContentType="image/jpeg"/>
  <Override PartName="/ppt/media/image22.png" ContentType="image/png"/>
  <Override PartName="/ppt/media/image119.png" ContentType="image/png"/>
  <Override PartName="/ppt/media/image128.png" ContentType="image/png"/>
  <Override PartName="/ppt/media/image56.png" ContentType="image/png"/>
  <Override PartName="/ppt/media/image58.jpeg" ContentType="image/jpeg"/>
  <Override PartName="/ppt/media/image148.jpeg" ContentType="image/jpeg"/>
  <Override PartName="/ppt/media/image34.png" ContentType="image/png"/>
  <Override PartName="/ppt/media/image131.jpeg" ContentType="image/jpeg"/>
  <Override PartName="/ppt/media/image59.jpeg" ContentType="image/jpeg"/>
  <Override PartName="/ppt/media/image135.wmf" ContentType="image/x-wmf"/>
  <Override PartName="/ppt/media/image84.png" ContentType="image/png"/>
  <Override PartName="/ppt/media/image16.png" ContentType="image/png"/>
  <Override PartName="/ppt/media/image81.png" ContentType="image/png"/>
  <Override PartName="/ppt/media/image152.jpeg" ContentType="image/jpeg"/>
  <Override PartName="/ppt/media/image51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82.png" ContentType="image/png"/>
  <Override PartName="/ppt/media/image1.png" ContentType="image/png"/>
  <Override PartName="/ppt/media/image149.jpeg" ContentType="image/jpeg"/>
  <Override PartName="/ppt/media/image132.jpeg" ContentType="image/jpeg"/>
  <Override PartName="/ppt/media/image44.png" ContentType="image/png"/>
  <Override PartName="/ppt/media/image4.png" ContentType="image/png"/>
  <Override PartName="/ppt/media/image156.png" ContentType="image/png"/>
  <Override PartName="/ppt/media/image33.png" ContentType="image/png"/>
  <Override PartName="/ppt/media/image157.jpeg" ContentType="image/jpeg"/>
  <Override PartName="/ppt/media/image61.jpeg" ContentType="image/jpeg"/>
  <Override PartName="/ppt/media/image74.png" ContentType="image/png"/>
  <Override PartName="/ppt/media/image155.png" ContentType="image/png"/>
  <Override PartName="/ppt/media/image3.png" ContentType="image/png"/>
  <Override PartName="/ppt/media/image32.png" ContentType="image/png"/>
  <Override PartName="/ppt/media/image154.png" ContentType="image/png"/>
  <Override PartName="/ppt/media/image2.png" ContentType="image/png"/>
  <Override PartName="/ppt/media/image72.jpeg" ContentType="image/jpeg"/>
  <Override PartName="/ppt/media/image25.jpeg" ContentType="image/jpeg"/>
  <Override PartName="/ppt/media/image9.png" ContentType="image/png"/>
  <Override PartName="/ppt/media/image31.png" ContentType="image/png"/>
  <Override PartName="/ppt/media/image150.jpeg" ContentType="image/jpeg"/>
  <Override PartName="/ppt/media/image28.jpeg" ContentType="image/jpeg"/>
  <Override PartName="/ppt/media/image20.jpeg" ContentType="image/jpeg"/>
  <Override PartName="/ppt/media/image49.png" ContentType="image/png"/>
  <Override PartName="/ppt/media/image100.png" ContentType="image/png"/>
  <Override PartName="/ppt/media/image163.jpeg" ContentType="image/jpeg"/>
  <Override PartName="/ppt/media/image80.png" ContentType="image/png"/>
  <Override PartName="/ppt/media/image12.png" ContentType="image/png"/>
  <Override PartName="/ppt/media/image109.png" ContentType="image/png"/>
  <Override PartName="/ppt/media/image26.jpeg" ContentType="image/jpeg"/>
  <Override PartName="/ppt/media/image101.png" ContentType="image/png"/>
  <Override PartName="/ppt/media/image21.jpeg" ContentType="image/jpeg"/>
  <Override PartName="/ppt/media/image65.png" ContentType="image/png"/>
  <Override PartName="/ppt/media/image63.jpeg" ContentType="image/jpeg"/>
  <Override PartName="/ppt/media/image94.png" ContentType="image/png"/>
  <Override PartName="/ppt/media/image60.jpeg" ContentType="image/jpeg"/>
  <Override PartName="/ppt/media/image62.png" ContentType="image/png"/>
  <Override PartName="/ppt/media/image66.jpeg" ContentType="image/jpeg"/>
  <Override PartName="/ppt/media/image110.png" ContentType="image/png"/>
  <Override PartName="/ppt/media/image67.jpeg" ContentType="image/jpeg"/>
  <Override PartName="/ppt/media/image69.png" ContentType="image/png"/>
  <Override PartName="/ppt/media/image68.jpeg" ContentType="image/jpeg"/>
  <Override PartName="/ppt/media/image79.png" ContentType="image/png"/>
  <Override PartName="/ppt/media/image75.png" ContentType="image/png"/>
  <Override PartName="/ppt/media/image76.png" ContentType="image/png"/>
  <Override PartName="/ppt/media/image121.jpeg" ContentType="image/jpeg"/>
  <Override PartName="/ppt/media/image77.png" ContentType="image/png"/>
  <Override PartName="/ppt/media/image78.png" ContentType="image/png"/>
  <Override PartName="/ppt/media/image145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a6c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2FCAFB8-6102-4624-8755-903D316710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A714D93-9E84-404E-B8DF-1E9E05031A2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3CCF2A1-92C6-401D-BDA7-94F1FAF693D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5D6E0F1-AB90-4164-8F70-2964F1B277B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fld id="{6E01EBE7-3F24-4244-AAE0-E0AC341FA480}" type="slidenum"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30F1E7F-E961-45A3-BADA-0B1D03E8C81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fld id="{DD074442-B984-4CCC-B82E-15437CDE1E55}" type="slidenum"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38FD57A-7D3D-43F1-8117-96BE04FE6B8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F469EAC-6188-481A-9BBA-2169A61B1E2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89462E9-8B6D-4F9E-A8C1-AC3788C744D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E755E-918D-4FF8-A38D-AA1A2D5B1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79200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5643360"/>
            <a:ext cx="79200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B3CFC-6050-4918-9CD0-B3DDFE526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5643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3920" y="5643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7FCA3-36F1-4736-AC49-419EACAAD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3320" y="5229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1000" y="5229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5643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3320" y="5643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1000" y="5643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29070-F26F-4BA9-B3B2-76B6F8EF2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5640" y="522936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5640" y="2130120"/>
            <a:ext cx="7920000" cy="96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5640" y="5643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522936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DAF03-A073-40B5-B659-B179921261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3920" y="5643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5640" y="5643360"/>
            <a:ext cx="79200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79200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5640" y="5643360"/>
            <a:ext cx="79200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5643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3920" y="5643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3320" y="5229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1000" y="5229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5640" y="5643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3320" y="5643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1000" y="5643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55640" y="522936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ABC98-1F16-4F4E-9B72-943AEDDE62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55640" y="2130120"/>
            <a:ext cx="7920000" cy="96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55640" y="5643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13920" y="5643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55640" y="5643360"/>
            <a:ext cx="79200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79200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55640" y="5643360"/>
            <a:ext cx="79200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55640" y="5643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813920" y="5643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433320" y="5229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11000" y="5229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55640" y="5643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433320" y="5643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11000" y="5643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DF894-6158-40E3-A0EC-81D6646886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55640" y="522936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578C1-9F92-45AC-81AA-D88B550F9CE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011B1-75CA-42AB-98A1-EB3FB533C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35B1F-909E-4C61-BE44-AFBDC192BD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A29FB-185D-46B5-BE38-0C0B769765E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1F00B-1B7F-4CCD-A2EF-20C2DD53221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55640" y="2130120"/>
            <a:ext cx="7920000" cy="96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B0C5E-90F6-4C95-941C-B42F357E38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55640" y="5643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28BD3-B848-4D0D-AC60-8D5B6C10553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813920" y="5643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C4A45-2175-446B-BA88-22E88CD303D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55640" y="5643360"/>
            <a:ext cx="79200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B31F7-94ED-418D-81D2-B601EDEED09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79200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55640" y="5643360"/>
            <a:ext cx="79200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DDC34-B8D0-4441-BB65-05B6262E30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55640" y="5643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813920" y="5643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B2C35-559A-478A-8E6B-C139785941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33320" y="5229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11000" y="5229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55640" y="5643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33320" y="5643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11000" y="5643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C00C1-9D44-451E-9D25-4064B4DE5C1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916F7-AEF1-403C-8403-7B237E3F841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55640" y="522936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755640" y="2130120"/>
            <a:ext cx="7920000" cy="96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55640" y="5643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813920" y="5643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55640" y="5643360"/>
            <a:ext cx="79200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79200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755640" y="5643360"/>
            <a:ext cx="79200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55640" y="5643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813920" y="5643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2130120"/>
            <a:ext cx="7920000" cy="96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41F11-4C5C-41E9-9774-BC05BE95C3D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33320" y="5229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11000" y="5229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55640" y="5643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433320" y="5643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11000" y="5643360"/>
            <a:ext cx="2549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5643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299D8-0B58-4BB9-BCE1-B479DD459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3920" y="5643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620EE-2449-4237-9C18-3105FBE71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3920" y="5229360"/>
            <a:ext cx="38646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5643360"/>
            <a:ext cx="79200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AC89D-DB03-4FDC-B0EF-51D8F041D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5789"/>
          <a:stretch/>
        </p:blipFill>
        <p:spPr>
          <a:xfrm>
            <a:off x="7012080" y="5705640"/>
            <a:ext cx="1736640" cy="115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34136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0ca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696a6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696a6c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696a6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900000" y="6453000"/>
            <a:ext cx="56880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96a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96a6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68360" y="6453000"/>
            <a:ext cx="3952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96a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C078-B4E7-4B46-A5FC-998E48C7D89E}" type="slidenum">
              <a:rPr b="0" lang="ru-RU" sz="1000" spc="-1" strike="noStrike">
                <a:solidFill>
                  <a:srgbClr val="696a6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0c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8532720" cy="6826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a6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755280" y="6093000"/>
            <a:ext cx="24210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a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96a6c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696a6c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lvl="2" marL="914400" algn="ctr">
              <a:spcBef>
                <a:spcPts val="524"/>
              </a:spcBef>
              <a:buClr>
                <a:srgbClr val="696a6c"/>
              </a:buClr>
              <a:buSzPct val="13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96a6c"/>
              </a:buClr>
              <a:buSzPct val="13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696a6c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96a6c"/>
              </a:buClr>
              <a:buSzPct val="13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696a6c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696a6c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696a6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11280" y="1395360"/>
            <a:ext cx="7772400" cy="469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012080" y="5489640"/>
            <a:ext cx="1736640" cy="1368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34136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f298f"/>
              </a:buClr>
              <a:buSzPct val="15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6a6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96a6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f298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6a6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96a6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96a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6a6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96a6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96a6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6a6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96a6c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696a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6a6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96a6c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6a6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96a6c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6a6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4"/>
          </p:nvPr>
        </p:nvSpPr>
        <p:spPr>
          <a:xfrm>
            <a:off x="900000" y="6453000"/>
            <a:ext cx="56880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96a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96a6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5"/>
          </p:nvPr>
        </p:nvSpPr>
        <p:spPr>
          <a:xfrm>
            <a:off x="468360" y="6453000"/>
            <a:ext cx="3952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96a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193D-40CD-43E3-AD49-3F8CCE51E372}" type="slidenum">
              <a:rPr b="0" lang="ru-RU" sz="1000" spc="-1" strike="noStrike">
                <a:solidFill>
                  <a:srgbClr val="696a6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0f2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8532720" cy="68263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213012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a6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6"/>
          </p:nvPr>
        </p:nvSpPr>
        <p:spPr>
          <a:xfrm>
            <a:off x="755280" y="6093000"/>
            <a:ext cx="24210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a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79.png"/><Relationship Id="rId4" Type="http://schemas.openxmlformats.org/officeDocument/2006/relationships/image" Target="../media/image8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3.png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image" Target="../media/image97.png"/><Relationship Id="rId8" Type="http://schemas.openxmlformats.org/officeDocument/2006/relationships/image" Target="../media/image98.png"/><Relationship Id="rId9" Type="http://schemas.openxmlformats.org/officeDocument/2006/relationships/image" Target="../media/image99.png"/><Relationship Id="rId10" Type="http://schemas.openxmlformats.org/officeDocument/2006/relationships/image" Target="../media/image100.png"/><Relationship Id="rId11" Type="http://schemas.openxmlformats.org/officeDocument/2006/relationships/image" Target="../media/image101.png"/><Relationship Id="rId12" Type="http://schemas.openxmlformats.org/officeDocument/2006/relationships/image" Target="../media/image102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image" Target="../media/image106.png"/><Relationship Id="rId17" Type="http://schemas.openxmlformats.org/officeDocument/2006/relationships/image" Target="../media/image107.png"/><Relationship Id="rId18" Type="http://schemas.openxmlformats.org/officeDocument/2006/relationships/image" Target="../media/image108.png"/><Relationship Id="rId19" Type="http://schemas.openxmlformats.org/officeDocument/2006/relationships/image" Target="../media/image109.png"/><Relationship Id="rId20" Type="http://schemas.openxmlformats.org/officeDocument/2006/relationships/image" Target="../media/image110.png"/><Relationship Id="rId21" Type="http://schemas.openxmlformats.org/officeDocument/2006/relationships/image" Target="../media/image111.png"/><Relationship Id="rId22" Type="http://schemas.openxmlformats.org/officeDocument/2006/relationships/image" Target="../media/image112.png"/><Relationship Id="rId23" Type="http://schemas.openxmlformats.org/officeDocument/2006/relationships/image" Target="../media/image113.png"/><Relationship Id="rId24" Type="http://schemas.openxmlformats.org/officeDocument/2006/relationships/image" Target="../media/image114.png"/><Relationship Id="rId25" Type="http://schemas.openxmlformats.org/officeDocument/2006/relationships/image" Target="../media/image115.png"/><Relationship Id="rId26" Type="http://schemas.openxmlformats.org/officeDocument/2006/relationships/image" Target="../media/image116.png"/><Relationship Id="rId27" Type="http://schemas.openxmlformats.org/officeDocument/2006/relationships/image" Target="../media/image117.png"/><Relationship Id="rId28" Type="http://schemas.openxmlformats.org/officeDocument/2006/relationships/image" Target="../media/image118.png"/><Relationship Id="rId29" Type="http://schemas.openxmlformats.org/officeDocument/2006/relationships/image" Target="../media/image119.png"/><Relationship Id="rId30" Type="http://schemas.openxmlformats.org/officeDocument/2006/relationships/image" Target="../media/image120.wmf"/><Relationship Id="rId31" Type="http://schemas.openxmlformats.org/officeDocument/2006/relationships/image" Target="../media/image121.jpeg"/><Relationship Id="rId32" Type="http://schemas.openxmlformats.org/officeDocument/2006/relationships/image" Target="../media/image122.wmf"/><Relationship Id="rId33" Type="http://schemas.openxmlformats.org/officeDocument/2006/relationships/image" Target="../media/image123.jpeg"/><Relationship Id="rId34" Type="http://schemas.openxmlformats.org/officeDocument/2006/relationships/image" Target="../media/image124.pn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image" Target="../media/image127.jpeg"/><Relationship Id="rId4" Type="http://schemas.openxmlformats.org/officeDocument/2006/relationships/image" Target="../media/image12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bj.ru/journal_image/num%209-2006/51.jpg" TargetMode="External"/><Relationship Id="rId2" Type="http://schemas.openxmlformats.org/officeDocument/2006/relationships/image" Target="../media/image12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0.jpeg"/><Relationship Id="rId2" Type="http://schemas.openxmlformats.org/officeDocument/2006/relationships/image" Target="../media/image13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ree-lancers.net/posted_files/C28011BC06A1.jpg" TargetMode="External"/><Relationship Id="rId2" Type="http://schemas.openxmlformats.org/officeDocument/2006/relationships/image" Target="../media/image134.jpeg"/><Relationship Id="rId3" Type="http://schemas.openxmlformats.org/officeDocument/2006/relationships/image" Target="../media/image135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7.png"/><Relationship Id="rId2" Type="http://schemas.openxmlformats.org/officeDocument/2006/relationships/image" Target="../media/image138.jpeg"/><Relationship Id="rId3" Type="http://schemas.openxmlformats.org/officeDocument/2006/relationships/image" Target="../media/image139.png"/><Relationship Id="rId4" Type="http://schemas.openxmlformats.org/officeDocument/2006/relationships/image" Target="../media/image140.png"/><Relationship Id="rId5" Type="http://schemas.openxmlformats.org/officeDocument/2006/relationships/image" Target="../media/image141.png"/><Relationship Id="rId6" Type="http://schemas.openxmlformats.org/officeDocument/2006/relationships/hyperlink" Target="http://www.pro-businesscenter.de/images/call-center.jpg" TargetMode="External"/><Relationship Id="rId7" Type="http://schemas.openxmlformats.org/officeDocument/2006/relationships/image" Target="../media/image142.jpe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ynmcs.ru/files/images/crm_2.jpg" TargetMode="External"/><Relationship Id="rId2" Type="http://schemas.openxmlformats.org/officeDocument/2006/relationships/image" Target="../media/image143.jpeg"/><Relationship Id="rId3" Type="http://schemas.openxmlformats.org/officeDocument/2006/relationships/hyperlink" Target="http://www.nedelya.ru/cache/gorzakaz/2008-03-03/9346.jpg" TargetMode="External"/><Relationship Id="rId4" Type="http://schemas.openxmlformats.org/officeDocument/2006/relationships/image" Target="../media/image144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5.wmf"/><Relationship Id="rId2" Type="http://schemas.openxmlformats.org/officeDocument/2006/relationships/hyperlink" Target="http://www.kiwer.ru/albums/image/normal_baa875a37311fadcbc809e47f198a2b2.jpg" TargetMode="External"/><Relationship Id="rId3" Type="http://schemas.openxmlformats.org/officeDocument/2006/relationships/image" Target="../media/image146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7.jpeg"/><Relationship Id="rId2" Type="http://schemas.openxmlformats.org/officeDocument/2006/relationships/hyperlink" Target="http://ashtarakkat.com/scripts/images/bus4.jpg" TargetMode="External"/><Relationship Id="rId3" Type="http://schemas.openxmlformats.org/officeDocument/2006/relationships/image" Target="../media/image14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2.png"/><Relationship Id="rId16" Type="http://schemas.openxmlformats.org/officeDocument/2006/relationships/image" Target="../media/image23.jpeg"/><Relationship Id="rId17" Type="http://schemas.openxmlformats.org/officeDocument/2006/relationships/image" Target="../media/image24.png"/><Relationship Id="rId18" Type="http://schemas.openxmlformats.org/officeDocument/2006/relationships/image" Target="../media/image25.jpeg"/><Relationship Id="rId19" Type="http://schemas.openxmlformats.org/officeDocument/2006/relationships/image" Target="../media/image26.jpeg"/><Relationship Id="rId20" Type="http://schemas.openxmlformats.org/officeDocument/2006/relationships/image" Target="../media/image27.jpeg"/><Relationship Id="rId21" Type="http://schemas.openxmlformats.org/officeDocument/2006/relationships/image" Target="../media/image28.jpeg"/><Relationship Id="rId22" Type="http://schemas.openxmlformats.org/officeDocument/2006/relationships/image" Target="../media/image29.png"/><Relationship Id="rId2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mag-consulting.ru/p/september2004/6.jpg" TargetMode="External"/><Relationship Id="rId2" Type="http://schemas.openxmlformats.org/officeDocument/2006/relationships/image" Target="../media/image149.jpeg"/><Relationship Id="rId3" Type="http://schemas.openxmlformats.org/officeDocument/2006/relationships/hyperlink" Target="http://www.microsoft.com/rus/business/Efficiency/Integration/_I/Highlight.jpg" TargetMode="External"/><Relationship Id="rId4" Type="http://schemas.openxmlformats.org/officeDocument/2006/relationships/image" Target="../media/image150.jpe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bestservice.com.ua/images/itoutsourcing/itoutsourcing1.jpg" TargetMode="External"/><Relationship Id="rId2" Type="http://schemas.openxmlformats.org/officeDocument/2006/relationships/image" Target="../media/image152.jpeg"/><Relationship Id="rId3" Type="http://schemas.openxmlformats.org/officeDocument/2006/relationships/hyperlink" Target="http://erpnews.ru/data/media/42/frlc_234x171.jpg" TargetMode="External"/><Relationship Id="rId4" Type="http://schemas.openxmlformats.org/officeDocument/2006/relationships/image" Target="../media/image153.jpe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4.png"/><Relationship Id="rId2" Type="http://schemas.openxmlformats.org/officeDocument/2006/relationships/image" Target="../media/image15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3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6.png"/><Relationship Id="rId2" Type="http://schemas.openxmlformats.org/officeDocument/2006/relationships/image" Target="../media/image157.jpeg"/><Relationship Id="rId3" Type="http://schemas.openxmlformats.org/officeDocument/2006/relationships/image" Target="../media/image158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image" Target="../media/image159.jpeg"/><Relationship Id="rId3" Type="http://schemas.openxmlformats.org/officeDocument/2006/relationships/image" Target="../media/image160.jpeg"/><Relationship Id="rId4" Type="http://schemas.openxmlformats.org/officeDocument/2006/relationships/image" Target="../media/image16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4.png"/><Relationship Id="rId2" Type="http://schemas.openxmlformats.org/officeDocument/2006/relationships/image" Target="../media/image162.jpeg"/><Relationship Id="rId3" Type="http://schemas.openxmlformats.org/officeDocument/2006/relationships/image" Target="../media/image163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4.wmf"/><Relationship Id="rId2" Type="http://schemas.openxmlformats.org/officeDocument/2006/relationships/image" Target="../media/image16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6.wmf"/><Relationship Id="rId2" Type="http://schemas.openxmlformats.org/officeDocument/2006/relationships/image" Target="../media/image167.png"/><Relationship Id="rId3" Type="http://schemas.openxmlformats.org/officeDocument/2006/relationships/image" Target="../media/image168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jpe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image" Target="../media/image46.png"/><Relationship Id="rId15" Type="http://schemas.openxmlformats.org/officeDocument/2006/relationships/image" Target="../media/image47.jpeg"/><Relationship Id="rId16" Type="http://schemas.openxmlformats.org/officeDocument/2006/relationships/image" Target="../media/image48.png"/><Relationship Id="rId17" Type="http://schemas.openxmlformats.org/officeDocument/2006/relationships/image" Target="../media/image49.png"/><Relationship Id="rId18" Type="http://schemas.openxmlformats.org/officeDocument/2006/relationships/image" Target="../media/image50.png"/><Relationship Id="rId19" Type="http://schemas.openxmlformats.org/officeDocument/2006/relationships/image" Target="../media/image51.png"/><Relationship Id="rId20" Type="http://schemas.openxmlformats.org/officeDocument/2006/relationships/image" Target="../media/image52.png"/><Relationship Id="rId21" Type="http://schemas.openxmlformats.org/officeDocument/2006/relationships/image" Target="../media/image53.png"/><Relationship Id="rId22" Type="http://schemas.openxmlformats.org/officeDocument/2006/relationships/image" Target="../media/image54.png"/><Relationship Id="rId23" Type="http://schemas.openxmlformats.org/officeDocument/2006/relationships/image" Target="../media/image55.jpeg"/><Relationship Id="rId24" Type="http://schemas.openxmlformats.org/officeDocument/2006/relationships/image" Target="../media/image56.png"/><Relationship Id="rId25" Type="http://schemas.openxmlformats.org/officeDocument/2006/relationships/image" Target="../media/image57.png"/><Relationship Id="rId26" Type="http://schemas.openxmlformats.org/officeDocument/2006/relationships/image" Target="../media/image58.jpeg"/><Relationship Id="rId27" Type="http://schemas.openxmlformats.org/officeDocument/2006/relationships/image" Target="../media/image59.jpeg"/><Relationship Id="rId28" Type="http://schemas.openxmlformats.org/officeDocument/2006/relationships/image" Target="../media/image60.jpeg"/><Relationship Id="rId29" Type="http://schemas.openxmlformats.org/officeDocument/2006/relationships/image" Target="../media/image61.jpeg"/><Relationship Id="rId30" Type="http://schemas.openxmlformats.org/officeDocument/2006/relationships/image" Target="../media/image62.png"/><Relationship Id="rId31" Type="http://schemas.openxmlformats.org/officeDocument/2006/relationships/image" Target="../media/image63.jpeg"/><Relationship Id="rId32" Type="http://schemas.openxmlformats.org/officeDocument/2006/relationships/image" Target="../media/image64.jpeg"/><Relationship Id="rId33" Type="http://schemas.openxmlformats.org/officeDocument/2006/relationships/image" Target="../media/image65.png"/><Relationship Id="rId34" Type="http://schemas.openxmlformats.org/officeDocument/2006/relationships/image" Target="../media/image66.jpeg"/><Relationship Id="rId35" Type="http://schemas.openxmlformats.org/officeDocument/2006/relationships/image" Target="../media/image67.jpeg"/><Relationship Id="rId36" Type="http://schemas.openxmlformats.org/officeDocument/2006/relationships/image" Target="../media/image68.jpeg"/><Relationship Id="rId37" Type="http://schemas.openxmlformats.org/officeDocument/2006/relationships/image" Target="../media/image69.png"/><Relationship Id="rId38" Type="http://schemas.openxmlformats.org/officeDocument/2006/relationships/image" Target="../media/image70.png"/><Relationship Id="rId39" Type="http://schemas.openxmlformats.org/officeDocument/2006/relationships/image" Target="../media/image71.png"/><Relationship Id="rId40" Type="http://schemas.openxmlformats.org/officeDocument/2006/relationships/image" Target="../media/image72.jpeg"/><Relationship Id="rId41" Type="http://schemas.openxmlformats.org/officeDocument/2006/relationships/image" Target="../media/image73.jpeg"/><Relationship Id="rId42" Type="http://schemas.openxmlformats.org/officeDocument/2006/relationships/image" Target="../media/image74.png"/><Relationship Id="rId43" Type="http://schemas.openxmlformats.org/officeDocument/2006/relationships/image" Target="../media/image75.png"/><Relationship Id="rId44" Type="http://schemas.openxmlformats.org/officeDocument/2006/relationships/image" Target="../media/image76.png"/><Relationship Id="rId45" Type="http://schemas.openxmlformats.org/officeDocument/2006/relationships/image" Target="../media/image77.png"/><Relationship Id="rId46" Type="http://schemas.openxmlformats.org/officeDocument/2006/relationships/image" Target="../media/image78.png"/><Relationship Id="rId47" Type="http://schemas.openxmlformats.org/officeDocument/2006/relationships/image" Target="../media/image79.png"/><Relationship Id="rId48" Type="http://schemas.openxmlformats.org/officeDocument/2006/relationships/image" Target="../media/image80.png"/><Relationship Id="rId49" Type="http://schemas.openxmlformats.org/officeDocument/2006/relationships/image" Target="../media/image81.png"/><Relationship Id="rId50" Type="http://schemas.openxmlformats.org/officeDocument/2006/relationships/image" Target="../media/image82.png"/><Relationship Id="rId5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12920" y="4463640"/>
            <a:ext cx="820872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96a6c"/>
                </a:solidFill>
                <a:latin typeface="Arial"/>
              </a:rPr>
              <a:t>Окно в мир инноваций</a:t>
            </a:r>
            <a:br>
              <a:rPr sz="3000"/>
            </a:br>
            <a:r>
              <a:rPr b="1" lang="en-US" sz="2400" spc="-1" strike="noStrike">
                <a:solidFill>
                  <a:srgbClr val="696a6c"/>
                </a:solidFill>
                <a:latin typeface="Arial"/>
              </a:rPr>
              <a:t>Информация о концерне «СИТРОНИКС»</a:t>
            </a: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716280" y="2619360"/>
            <a:ext cx="187020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4"/>
          <p:cNvSpPr/>
          <p:nvPr/>
        </p:nvSpPr>
        <p:spPr>
          <a:xfrm>
            <a:off x="468360" y="64533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4463-06C0-41C0-9721-C7BD25491C88}" type="slidenum">
              <a:rPr b="0" lang="ru-RU" sz="1000" spc="-1" strike="noStrike">
                <a:solidFill>
                  <a:srgbClr val="696a6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5" descr="mts"/>
          <p:cNvPicPr/>
          <p:nvPr/>
        </p:nvPicPr>
        <p:blipFill>
          <a:blip r:embed="rId1"/>
          <a:stretch/>
        </p:blipFill>
        <p:spPr>
          <a:xfrm>
            <a:off x="252360" y="1268280"/>
            <a:ext cx="1116000" cy="49860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4"/>
          <p:cNvSpPr/>
          <p:nvPr/>
        </p:nvSpPr>
        <p:spPr>
          <a:xfrm>
            <a:off x="1668600" y="1160640"/>
            <a:ext cx="6072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ОАО «Мобильные ТелеСистемы» («МТС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Построение системы бюджетирования на базе SAS FMS в МТ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Партнеры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: S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1692360" y="2168640"/>
            <a:ext cx="60721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АКБ «Укрсоцбан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Создание центра обработки данных в АКБ «Укрсоцбан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Партнеры: 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IBM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, Oracle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, АРС, Liebert-Hiross, R&amp;M,  L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7" descr="ukrsotsbank"/>
          <p:cNvPicPr/>
          <p:nvPr/>
        </p:nvPicPr>
        <p:blipFill>
          <a:blip r:embed="rId2"/>
          <a:stretch/>
        </p:blipFill>
        <p:spPr>
          <a:xfrm>
            <a:off x="179280" y="2133720"/>
            <a:ext cx="1478160" cy="66492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4"/>
          <p:cNvSpPr/>
          <p:nvPr/>
        </p:nvSpPr>
        <p:spPr>
          <a:xfrm>
            <a:off x="1692360" y="3429000"/>
            <a:ext cx="6985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Бюро путешествий «Куда.Р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Партнеры: 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Gene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9" descr=""/>
          <p:cNvPicPr/>
          <p:nvPr/>
        </p:nvPicPr>
        <p:blipFill>
          <a:blip r:embed="rId3"/>
          <a:stretch/>
        </p:blipFill>
        <p:spPr>
          <a:xfrm>
            <a:off x="287280" y="4951440"/>
            <a:ext cx="828720" cy="6015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39"/>
          <p:cNvSpPr/>
          <p:nvPr/>
        </p:nvSpPr>
        <p:spPr>
          <a:xfrm>
            <a:off x="1692360" y="4905360"/>
            <a:ext cx="6995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УПЦ Московского метрополит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Внедрение МИОС в Учебно-производственном Центре Московского Метрополит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9"/>
          <p:cNvSpPr/>
          <p:nvPr/>
        </p:nvSpPr>
        <p:spPr>
          <a:xfrm>
            <a:off x="179280" y="3033720"/>
            <a:ext cx="8137800" cy="2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Создание современной консолидированной платформы для основных бизнес-приложений ба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179280" y="4059360"/>
            <a:ext cx="87138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В рамках проекта был осуществлен переход на новую платформу Genesys, обеспечена возможность географического масштабирования контакт-центра, выполнена интеграция с CRM-системой компании «куда.ru», а также реализованы дополнительные сервисы по управлению вызовами и обслуживанию кли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"/>
          <p:cNvSpPr/>
          <p:nvPr/>
        </p:nvSpPr>
        <p:spPr>
          <a:xfrm>
            <a:off x="179280" y="5553000"/>
            <a:ext cx="8352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Построение инфраструктуры, обеспечивающей создание единого  информационно-образовательного пространства для сотрудников комп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01"/>
          <p:cNvSpPr/>
          <p:nvPr/>
        </p:nvSpPr>
        <p:spPr>
          <a:xfrm>
            <a:off x="250920" y="2097000"/>
            <a:ext cx="8642160" cy="0"/>
          </a:xfrm>
          <a:prstGeom prst="line">
            <a:avLst/>
          </a:prstGeom>
          <a:ln w="12600">
            <a:solidFill>
              <a:srgbClr val="f0c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01"/>
          <p:cNvSpPr/>
          <p:nvPr/>
        </p:nvSpPr>
        <p:spPr>
          <a:xfrm>
            <a:off x="250920" y="3357720"/>
            <a:ext cx="8642160" cy="0"/>
          </a:xfrm>
          <a:prstGeom prst="line">
            <a:avLst/>
          </a:prstGeom>
          <a:ln w="12600">
            <a:solidFill>
              <a:srgbClr val="f0c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01"/>
          <p:cNvSpPr/>
          <p:nvPr/>
        </p:nvSpPr>
        <p:spPr>
          <a:xfrm>
            <a:off x="250920" y="4834080"/>
            <a:ext cx="8642160" cy="0"/>
          </a:xfrm>
          <a:prstGeom prst="line">
            <a:avLst/>
          </a:prstGeom>
          <a:ln w="12600">
            <a:solidFill>
              <a:srgbClr val="f0c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5"/>
          <p:cNvSpPr/>
          <p:nvPr/>
        </p:nvSpPr>
        <p:spPr>
          <a:xfrm>
            <a:off x="468360" y="117360"/>
            <a:ext cx="820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  <a:ea typeface="Arial"/>
              </a:rPr>
              <a:t>Реализованные 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6" descr="Куда.ru"/>
          <p:cNvPicPr/>
          <p:nvPr/>
        </p:nvPicPr>
        <p:blipFill>
          <a:blip r:embed="rId4"/>
          <a:stretch/>
        </p:blipFill>
        <p:spPr>
          <a:xfrm>
            <a:off x="250920" y="3429000"/>
            <a:ext cx="1125360" cy="51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D284-D4D1-4CC6-B3FD-9B9795A399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Номер слайда 4"/>
          <p:cNvSpPr/>
          <p:nvPr/>
        </p:nvSpPr>
        <p:spPr>
          <a:xfrm>
            <a:off x="468360" y="64533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290F-60A4-4699-AC57-A014E8D78BC7}" type="slidenum">
              <a:rPr b="0" lang="ru-RU" sz="1000" spc="-1" strike="noStrike">
                <a:solidFill>
                  <a:srgbClr val="696a6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9"/>
          <p:cNvSpPr/>
          <p:nvPr/>
        </p:nvSpPr>
        <p:spPr>
          <a:xfrm>
            <a:off x="1736640" y="1314360"/>
            <a:ext cx="70707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Внедрение бесконтактных технологий  в Московском метрополите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Отрасль: Транспо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6" descr=""/>
          <p:cNvPicPr/>
          <p:nvPr/>
        </p:nvPicPr>
        <p:blipFill>
          <a:blip r:embed="rId1"/>
          <a:stretch/>
        </p:blipFill>
        <p:spPr>
          <a:xfrm>
            <a:off x="476280" y="1224000"/>
            <a:ext cx="938160" cy="6811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mts"/>
          <p:cNvPicPr/>
          <p:nvPr/>
        </p:nvPicPr>
        <p:blipFill>
          <a:blip r:embed="rId2"/>
          <a:stretch/>
        </p:blipFill>
        <p:spPr>
          <a:xfrm>
            <a:off x="431640" y="2708280"/>
            <a:ext cx="1025640" cy="45864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34"/>
          <p:cNvSpPr/>
          <p:nvPr/>
        </p:nvSpPr>
        <p:spPr>
          <a:xfrm>
            <a:off x="1781280" y="2664000"/>
            <a:ext cx="62452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Поставка продуктов и услуг МТ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Отрасль: Телекоммуник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12"/>
          <p:cNvSpPr/>
          <p:nvPr/>
        </p:nvSpPr>
        <p:spPr>
          <a:xfrm>
            <a:off x="203040" y="1989000"/>
            <a:ext cx="864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Внедрение 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RFID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-технологий 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c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 использованием бесконтактных бумажных билетов (БСК, или Ультралайт), оснащенных чипом 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Mifare Ultralight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 (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NXP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) на гибком носите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12"/>
          <p:cNvSpPr/>
          <p:nvPr/>
        </p:nvSpPr>
        <p:spPr>
          <a:xfrm>
            <a:off x="206280" y="3338640"/>
            <a:ext cx="86439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Установка и запуск платформы 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Dynamic Sim Tool Kit (DSTK)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 в 9 регионах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Разработка и внедрение продукта для сетей третьего поко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Внедрение доп. Услуг на основе 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DST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Реализация доставки продукции в регионы России непосредственно со склада производ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1"/>
          <p:cNvSpPr/>
          <p:nvPr/>
        </p:nvSpPr>
        <p:spPr>
          <a:xfrm>
            <a:off x="468360" y="117360"/>
            <a:ext cx="820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  <a:ea typeface="Arial"/>
              </a:rPr>
              <a:t>Реализованные 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01"/>
          <p:cNvSpPr/>
          <p:nvPr/>
        </p:nvSpPr>
        <p:spPr>
          <a:xfrm>
            <a:off x="250920" y="2529000"/>
            <a:ext cx="8642160" cy="0"/>
          </a:xfrm>
          <a:prstGeom prst="line">
            <a:avLst/>
          </a:prstGeom>
          <a:ln w="19080">
            <a:solidFill>
              <a:srgbClr val="f0c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01"/>
          <p:cNvSpPr/>
          <p:nvPr/>
        </p:nvSpPr>
        <p:spPr>
          <a:xfrm>
            <a:off x="250920" y="4464000"/>
            <a:ext cx="8642160" cy="0"/>
          </a:xfrm>
          <a:prstGeom prst="line">
            <a:avLst/>
          </a:prstGeom>
          <a:ln w="19080">
            <a:solidFill>
              <a:srgbClr val="f0c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5"/>
          <p:cNvSpPr/>
          <p:nvPr/>
        </p:nvSpPr>
        <p:spPr>
          <a:xfrm>
            <a:off x="206280" y="5363280"/>
            <a:ext cx="8686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Поставка транспортных билетов для наземного транспорта г. Москвы по заказу Единого социального регистра. Билеты аналогичны уже действующим в Московском метрополитене картам «Ультралайт», но могут использоваться также для оплаты проезда на наземном транспорте и в пригородных электрич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4"/>
          <p:cNvSpPr/>
          <p:nvPr/>
        </p:nvSpPr>
        <p:spPr>
          <a:xfrm>
            <a:off x="1736640" y="4554360"/>
            <a:ext cx="68850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Поставка транспортных карт для Единого социального регис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Отрасль: Транспо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18" descr="logo"/>
          <p:cNvPicPr/>
          <p:nvPr/>
        </p:nvPicPr>
        <p:blipFill>
          <a:blip r:embed="rId3"/>
          <a:stretch/>
        </p:blipFill>
        <p:spPr>
          <a:xfrm>
            <a:off x="588960" y="4599000"/>
            <a:ext cx="652320" cy="76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151B2-0D43-45CA-ABB8-D227E880F4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Номер слайда 2"/>
          <p:cNvSpPr/>
          <p:nvPr/>
        </p:nvSpPr>
        <p:spPr>
          <a:xfrm>
            <a:off x="468360" y="64533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68B5-601B-4C67-A3D0-1E2098F1CCA6}" type="slidenum">
              <a:rPr b="0" lang="ru-RU" sz="1000" spc="-1" strike="noStrike">
                <a:solidFill>
                  <a:srgbClr val="696a6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095560" y="3294000"/>
            <a:ext cx="67071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0" lang="en-US" sz="1100" spc="-1" strike="noStrike">
                <a:solidFill>
                  <a:srgbClr val="4d4d4d"/>
                </a:solidFill>
                <a:latin typeface="Arial"/>
                <a:ea typeface="Arial"/>
              </a:rPr>
              <a:t>Реализация системного проекта «Коммерциализация продуктов и услуг с использованием данных ГЛОНАСС на основе механизма государственно-частного партнерств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1962000" y="1193760"/>
            <a:ext cx="6229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Участие в ФЦП «Национальная технологическая база» на  2007-2011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2097000" y="1469880"/>
            <a:ext cx="67500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  <a:ea typeface="Arial"/>
              </a:rPr>
              <a:t>Организация производства чипов по технологии 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  <a:ea typeface="Arial"/>
              </a:rPr>
              <a:t>EEPROM</a:t>
            </a:r>
            <a:r>
              <a:rPr b="0" lang="ru-RU" sz="1100" spc="-1" strike="noStrike">
                <a:solidFill>
                  <a:srgbClr val="4d4d4d"/>
                </a:solidFill>
                <a:latin typeface="Arial"/>
                <a:ea typeface="Arial"/>
              </a:rPr>
              <a:t> с топологическим размером 0,18 микр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1962000" y="1854360"/>
            <a:ext cx="6661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Участие  в ФЦП «Развитие инфраструктуры наноиндустрии в Российской Федерации» на 2008 – 2010 г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2097000" y="2303640"/>
            <a:ext cx="670572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0" lang="en-US" sz="1100" spc="-1" strike="noStrike">
                <a:solidFill>
                  <a:srgbClr val="4d4d4d"/>
                </a:solidFill>
                <a:latin typeface="Arial"/>
                <a:ea typeface="Arial"/>
              </a:rPr>
              <a:t>Организация первого в России производства интегральных микросхем на пластинах диаметром 300 мм с проектными нормами 65-45 нм с использованием средств государственной поддержки и средств частного бизнес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1962000" y="3024360"/>
            <a:ext cx="6661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Участие в ФЦП «Глобальная навигационная систе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1996920" y="4194000"/>
            <a:ext cx="676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-53640" bIns="-53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9"/>
          <p:cNvSpPr/>
          <p:nvPr/>
        </p:nvSpPr>
        <p:spPr>
          <a:xfrm>
            <a:off x="1996920" y="4518000"/>
            <a:ext cx="676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-53640" bIns="-53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0"/>
          <p:cNvSpPr/>
          <p:nvPr/>
        </p:nvSpPr>
        <p:spPr>
          <a:xfrm>
            <a:off x="1996920" y="1193760"/>
            <a:ext cx="0" cy="408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1"/>
          <p:cNvSpPr/>
          <p:nvPr/>
        </p:nvSpPr>
        <p:spPr>
          <a:xfrm>
            <a:off x="8766000" y="1193760"/>
            <a:ext cx="0" cy="408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2"/>
          <p:cNvSpPr/>
          <p:nvPr/>
        </p:nvSpPr>
        <p:spPr>
          <a:xfrm>
            <a:off x="1996920" y="5276880"/>
            <a:ext cx="676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-53640" bIns="-53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414360" y="233280"/>
            <a:ext cx="82072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  <a:ea typeface="Arial"/>
              </a:rPr>
              <a:t>Участие в Федеральных целевых программах и нацпроек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4"/>
          <p:cNvSpPr/>
          <p:nvPr/>
        </p:nvSpPr>
        <p:spPr>
          <a:xfrm>
            <a:off x="0" y="5589720"/>
            <a:ext cx="6659640" cy="792000"/>
          </a:xfrm>
          <a:prstGeom prst="rect">
            <a:avLst/>
          </a:prstGeom>
          <a:solidFill>
            <a:srgbClr val="696a6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ctr">
            <a:noAutofit/>
          </a:bodyPr>
          <a:p>
            <a:pPr marL="358920" indent="-358920">
              <a:spcBef>
                <a:spcPts val="17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Концерн «СИТРОНИКС» - крупнейший партнер в проектах с участием госуда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01"/>
          <p:cNvSpPr/>
          <p:nvPr/>
        </p:nvSpPr>
        <p:spPr>
          <a:xfrm>
            <a:off x="2141640" y="1808280"/>
            <a:ext cx="67150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7" descr="1"/>
          <p:cNvPicPr/>
          <p:nvPr/>
        </p:nvPicPr>
        <p:blipFill>
          <a:blip r:embed="rId1"/>
          <a:stretch/>
        </p:blipFill>
        <p:spPr>
          <a:xfrm>
            <a:off x="250920" y="1268280"/>
            <a:ext cx="1530360" cy="1214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8" descr="2"/>
          <p:cNvPicPr/>
          <p:nvPr/>
        </p:nvPicPr>
        <p:blipFill>
          <a:blip r:embed="rId2"/>
          <a:stretch/>
        </p:blipFill>
        <p:spPr>
          <a:xfrm>
            <a:off x="250920" y="2754360"/>
            <a:ext cx="1530360" cy="10666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9" descr="3"/>
          <p:cNvPicPr/>
          <p:nvPr/>
        </p:nvPicPr>
        <p:blipFill>
          <a:blip r:embed="rId3"/>
          <a:stretch/>
        </p:blipFill>
        <p:spPr>
          <a:xfrm>
            <a:off x="250920" y="4014720"/>
            <a:ext cx="1530360" cy="1266840"/>
          </a:xfrm>
          <a:prstGeom prst="rect">
            <a:avLst/>
          </a:prstGeom>
          <a:ln w="0">
            <a:noFill/>
          </a:ln>
        </p:spPr>
      </p:pic>
      <p:sp>
        <p:nvSpPr>
          <p:cNvPr id="476" name="Line 101"/>
          <p:cNvSpPr/>
          <p:nvPr/>
        </p:nvSpPr>
        <p:spPr>
          <a:xfrm>
            <a:off x="2141640" y="2979720"/>
            <a:ext cx="67532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01"/>
          <p:cNvSpPr/>
          <p:nvPr/>
        </p:nvSpPr>
        <p:spPr>
          <a:xfrm>
            <a:off x="2141640" y="3789360"/>
            <a:ext cx="67402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1"/>
          <p:cNvSpPr/>
          <p:nvPr/>
        </p:nvSpPr>
        <p:spPr>
          <a:xfrm>
            <a:off x="2006640" y="3833640"/>
            <a:ext cx="68864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1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96a6c"/>
                </a:solidFill>
                <a:latin typeface="Arial"/>
                <a:ea typeface="Arial"/>
              </a:rPr>
              <a:t>Участие в ФЦП «Снижение рисков и смягчение последствий чрезвычайных ситуаций природного и техногенного характера в Российской Федерации до 2010 год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2"/>
          <p:cNvSpPr/>
          <p:nvPr/>
        </p:nvSpPr>
        <p:spPr>
          <a:xfrm>
            <a:off x="2095560" y="4284720"/>
            <a:ext cx="66150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0" lang="en-US" sz="1100" spc="-1" strike="noStrike">
                <a:solidFill>
                  <a:srgbClr val="4d4d4d"/>
                </a:solidFill>
                <a:latin typeface="Arial"/>
                <a:ea typeface="Arial"/>
              </a:rPr>
              <a:t>Реализация проекта ОКСИОН с МЧС Росс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01"/>
          <p:cNvSpPr/>
          <p:nvPr/>
        </p:nvSpPr>
        <p:spPr>
          <a:xfrm>
            <a:off x="2141640" y="4599000"/>
            <a:ext cx="67150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4"/>
          <p:cNvSpPr/>
          <p:nvPr/>
        </p:nvSpPr>
        <p:spPr>
          <a:xfrm>
            <a:off x="2006640" y="4668840"/>
            <a:ext cx="6661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Участие в Национальном проекте «Образова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5"/>
          <p:cNvSpPr/>
          <p:nvPr/>
        </p:nvSpPr>
        <p:spPr>
          <a:xfrm>
            <a:off x="2095560" y="4915080"/>
            <a:ext cx="67975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spAutoFit/>
          </a:bodyPr>
          <a:p>
            <a:pPr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  <a:ea typeface="Arial"/>
              </a:rPr>
              <a:t>Оснащение 500 школ в России мультисервисными интерактивными образовательными комплексами (МИОС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854A9-6543-404D-82D0-C5B31D1B7C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Номер слайда 3"/>
          <p:cNvSpPr/>
          <p:nvPr/>
        </p:nvSpPr>
        <p:spPr>
          <a:xfrm>
            <a:off x="468360" y="64533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2334-0BED-4D59-9100-9240FA1CC124}" type="slidenum">
              <a:rPr b="0" lang="ru-RU" sz="1000" spc="-1" strike="noStrike">
                <a:solidFill>
                  <a:srgbClr val="696a6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1"/>
          <a:stretch/>
        </p:blipFill>
        <p:spPr>
          <a:xfrm>
            <a:off x="1498680" y="2573280"/>
            <a:ext cx="3117600" cy="259236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2"/>
          <p:cNvSpPr/>
          <p:nvPr/>
        </p:nvSpPr>
        <p:spPr>
          <a:xfrm>
            <a:off x="5551560" y="4302000"/>
            <a:ext cx="441360" cy="301680"/>
          </a:xfrm>
          <a:prstGeom prst="upArrow">
            <a:avLst>
              <a:gd name="adj1" fmla="val 50000"/>
              <a:gd name="adj2" fmla="val 34273"/>
            </a:avLst>
          </a:prstGeom>
          <a:solidFill>
            <a:srgbClr val="7f7f7f"/>
          </a:soli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a6c"/>
                </a:solidFill>
                <a:latin typeface="Arial"/>
              </a:rPr>
              <a:t>СИТРОНИКС:</a:t>
            </a:r>
            <a:br>
              <a:rPr sz="2000"/>
            </a:br>
            <a:r>
              <a:rPr b="1" lang="ru-RU" sz="2000" spc="-1" strike="noStrike">
                <a:solidFill>
                  <a:srgbClr val="696a6c"/>
                </a:solidFill>
                <a:latin typeface="Arial"/>
              </a:rPr>
              <a:t>Деятельность в области исследований и разработок (</a:t>
            </a: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R&amp;D)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250920" y="2216160"/>
            <a:ext cx="4365360" cy="324000"/>
          </a:xfrm>
          <a:prstGeom prst="rect">
            <a:avLst/>
          </a:prstGeom>
          <a:solidFill>
            <a:srgbClr val="ddddd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еографи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/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я 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4976640" y="2211480"/>
            <a:ext cx="3916440" cy="323640"/>
          </a:xfrm>
          <a:prstGeom prst="rect">
            <a:avLst/>
          </a:prstGeom>
          <a:solidFill>
            <a:srgbClr val="ddddd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СИТРОНИКС: Цепочка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250920" y="4416480"/>
            <a:ext cx="1216080" cy="812880"/>
          </a:xfrm>
          <a:prstGeom prst="wedgeRectCallout">
            <a:avLst>
              <a:gd name="adj1" fmla="val 116189"/>
              <a:gd name="adj2" fmla="val -43555"/>
            </a:avLst>
          </a:prstGeom>
          <a:solidFill>
            <a:srgbClr val="ffcc00">
              <a:alpha val="3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Афины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 BWA / WiMA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 IPT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8"/>
          <p:cNvSpPr/>
          <p:nvPr/>
        </p:nvSpPr>
        <p:spPr>
          <a:xfrm>
            <a:off x="2843280" y="4100400"/>
            <a:ext cx="1584360" cy="1128960"/>
          </a:xfrm>
          <a:prstGeom prst="wedgeRectCallout">
            <a:avLst>
              <a:gd name="adj1" fmla="val -31763"/>
              <a:gd name="adj2" fmla="val -137199"/>
            </a:avLst>
          </a:prstGeom>
          <a:solidFill>
            <a:srgbClr val="ffcc00">
              <a:alpha val="3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Зеленоград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- Разработка И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Безопасност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Мультимедиа П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250920" y="3440160"/>
            <a:ext cx="1216080" cy="795240"/>
          </a:xfrm>
          <a:prstGeom prst="wedgeRectCallout">
            <a:avLst>
              <a:gd name="adj1" fmla="val 80287"/>
              <a:gd name="adj2" fmla="val -23851"/>
            </a:avLst>
          </a:prstGeom>
          <a:solidFill>
            <a:srgbClr val="f0ca00">
              <a:alpha val="3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Прага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 OSS/BS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 NG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2"/>
          <p:cNvSpPr/>
          <p:nvPr/>
        </p:nvSpPr>
        <p:spPr>
          <a:xfrm>
            <a:off x="5553000" y="3220920"/>
            <a:ext cx="461880" cy="273240"/>
          </a:xfrm>
          <a:prstGeom prst="upArrow">
            <a:avLst>
              <a:gd name="adj1" fmla="val 50000"/>
              <a:gd name="adj2" fmla="val 34273"/>
            </a:avLst>
          </a:prstGeom>
          <a:solidFill>
            <a:srgbClr val="7f7f7f"/>
          </a:soli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203"/>
          <p:cNvSpPr/>
          <p:nvPr/>
        </p:nvSpPr>
        <p:spPr>
          <a:xfrm>
            <a:off x="4976640" y="2660760"/>
            <a:ext cx="1670400" cy="576000"/>
          </a:xfrm>
          <a:prstGeom prst="flowChartProcess">
            <a:avLst/>
          </a:prstGeom>
          <a:solidFill>
            <a:srgbClr val="dddddd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8080"/>
                </a:solidFill>
                <a:latin typeface="Arial"/>
                <a:ea typeface="Arial"/>
              </a:rPr>
              <a:t>R&amp;D </a:t>
            </a:r>
            <a:r>
              <a:rPr b="1" lang="ru-RU" sz="1300" spc="-1" strike="noStrike">
                <a:solidFill>
                  <a:srgbClr val="808080"/>
                </a:solidFill>
                <a:latin typeface="Arial"/>
                <a:ea typeface="Arial"/>
              </a:rPr>
              <a:t>Цент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04"/>
          <p:cNvSpPr/>
          <p:nvPr/>
        </p:nvSpPr>
        <p:spPr>
          <a:xfrm>
            <a:off x="4971960" y="4687920"/>
            <a:ext cx="1670040" cy="461880"/>
          </a:xfrm>
          <a:prstGeom prst="flowChartProcess">
            <a:avLst/>
          </a:prstGeom>
          <a:solidFill>
            <a:srgbClr val="dddddd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808080"/>
                </a:solidFill>
                <a:latin typeface="Arial"/>
                <a:ea typeface="Arial"/>
              </a:rPr>
              <a:t>Ресурсный цент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05"/>
          <p:cNvSpPr/>
          <p:nvPr/>
        </p:nvSpPr>
        <p:spPr>
          <a:xfrm>
            <a:off x="4971960" y="3517920"/>
            <a:ext cx="1670040" cy="720720"/>
          </a:xfrm>
          <a:prstGeom prst="flowChartProcess">
            <a:avLst/>
          </a:prstGeom>
          <a:solidFill>
            <a:srgbClr val="dddddd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808080"/>
                </a:solidFill>
                <a:latin typeface="Arial"/>
                <a:ea typeface="Arial"/>
              </a:rPr>
              <a:t>Центы</a:t>
            </a:r>
            <a:br>
              <a:rPr sz="1300"/>
            </a:br>
            <a:r>
              <a:rPr b="1" lang="ru-RU" sz="1300" spc="-1" strike="noStrike">
                <a:solidFill>
                  <a:srgbClr val="808080"/>
                </a:solidFill>
                <a:latin typeface="Arial"/>
                <a:ea typeface="Arial"/>
              </a:rPr>
              <a:t>Компетенц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4"/>
          <p:cNvGrpSpPr/>
          <p:nvPr/>
        </p:nvGrpSpPr>
        <p:grpSpPr>
          <a:xfrm>
            <a:off x="6551640" y="2690280"/>
            <a:ext cx="2341440" cy="600120"/>
            <a:chOff x="6551640" y="2690280"/>
            <a:chExt cx="2341440" cy="600120"/>
          </a:xfrm>
        </p:grpSpPr>
        <p:sp>
          <p:nvSpPr>
            <p:cNvPr id="497" name="AutoShape 15"/>
            <p:cNvSpPr/>
            <p:nvPr/>
          </p:nvSpPr>
          <p:spPr>
            <a:xfrm rot="10800000">
              <a:off x="6551640" y="2690280"/>
              <a:ext cx="2341440" cy="600120"/>
            </a:xfrm>
            <a:custGeom>
              <a:avLst/>
              <a:gdLst>
                <a:gd name="textAreaLeft" fmla="*/ 0 w 2341440"/>
                <a:gd name="textAreaRight" fmla="*/ 2341800 w 234144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>
                <a:alpha val="2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16"/>
            <p:cNvSpPr/>
            <p:nvPr/>
          </p:nvSpPr>
          <p:spPr>
            <a:xfrm>
              <a:off x="6958080" y="2751120"/>
              <a:ext cx="160164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spAutoFit/>
            </a:bodyPr>
            <a:p>
              <a:pPr marL="92160" indent="-3240">
                <a:spcBef>
                  <a:spcPts val="751"/>
                </a:spcBef>
                <a:tabLst>
                  <a:tab algn="l" pos="0"/>
                  <a:tab algn="l" pos="252360"/>
                  <a:tab algn="l" pos="504720"/>
                  <a:tab algn="l" pos="757080"/>
                  <a:tab algn="l" pos="1009800"/>
                  <a:tab algn="l" pos="1262160"/>
                  <a:tab algn="l" pos="1514520"/>
                  <a:tab algn="l" pos="1766880"/>
                  <a:tab algn="l" pos="2019240"/>
                  <a:tab algn="l" pos="2271600"/>
                  <a:tab algn="l" pos="2523960"/>
                  <a:tab algn="l" pos="2776680"/>
                  <a:tab algn="l" pos="3029040"/>
                  <a:tab algn="l" pos="3281400"/>
                  <a:tab algn="l" pos="3533760"/>
                  <a:tab algn="l" pos="3786120"/>
                  <a:tab algn="l" pos="4038480"/>
                  <a:tab algn="l" pos="4290840"/>
                  <a:tab algn="l" pos="4543560"/>
                  <a:tab algn="l" pos="4795920"/>
                  <a:tab algn="l" pos="5048280"/>
                </a:tabLst>
              </a:pPr>
              <a:r>
                <a:rPr b="0" lang="en-US" sz="1200" spc="-1" strike="noStrike">
                  <a:solidFill>
                    <a:srgbClr val="696a6c"/>
                  </a:solidFill>
                  <a:latin typeface="Arial"/>
                  <a:ea typeface="Arial"/>
                </a:rPr>
                <a:t>Государственная программа и Р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AutoShape 17"/>
          <p:cNvSpPr/>
          <p:nvPr/>
        </p:nvSpPr>
        <p:spPr>
          <a:xfrm>
            <a:off x="250920" y="2720880"/>
            <a:ext cx="1441440" cy="576360"/>
          </a:xfrm>
          <a:prstGeom prst="wedgeRectCallout">
            <a:avLst>
              <a:gd name="adj1" fmla="val 180504"/>
              <a:gd name="adj2" fmla="val -10606"/>
            </a:avLst>
          </a:prstGeom>
          <a:solidFill>
            <a:srgbClr val="f0ca00">
              <a:alpha val="3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Новый центр</a:t>
            </a:r>
            <a:br>
              <a:rPr sz="1200"/>
            </a:br>
            <a:r>
              <a:rPr b="1" i="1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18"/>
          <p:cNvGrpSpPr/>
          <p:nvPr/>
        </p:nvGrpSpPr>
        <p:grpSpPr>
          <a:xfrm>
            <a:off x="6516720" y="3429000"/>
            <a:ext cx="2373120" cy="860400"/>
            <a:chOff x="6516720" y="3429000"/>
            <a:chExt cx="2373120" cy="860400"/>
          </a:xfrm>
        </p:grpSpPr>
        <p:sp>
          <p:nvSpPr>
            <p:cNvPr id="501" name="AutoShape 19"/>
            <p:cNvSpPr/>
            <p:nvPr/>
          </p:nvSpPr>
          <p:spPr>
            <a:xfrm rot="10800000">
              <a:off x="6516720" y="3429000"/>
              <a:ext cx="2373120" cy="860400"/>
            </a:xfrm>
            <a:custGeom>
              <a:avLst/>
              <a:gdLst>
                <a:gd name="textAreaLeft" fmla="*/ 0 w 2373120"/>
                <a:gd name="textAreaRight" fmla="*/ 2373480 w 237312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>
                <a:alpha val="2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0"/>
            <p:cNvSpPr/>
            <p:nvPr/>
          </p:nvSpPr>
          <p:spPr>
            <a:xfrm>
              <a:off x="6804000" y="3497400"/>
              <a:ext cx="20430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spAutoFit/>
            </a:bodyPr>
            <a:p>
              <a:pPr marL="177840" indent="12600">
                <a:spcBef>
                  <a:spcPts val="689"/>
                </a:spcBef>
                <a:tabLst>
                  <a:tab algn="l" pos="0"/>
                  <a:tab algn="l" pos="252360"/>
                  <a:tab algn="l" pos="504720"/>
                  <a:tab algn="l" pos="757080"/>
                  <a:tab algn="l" pos="1009800"/>
                  <a:tab algn="l" pos="1262160"/>
                  <a:tab algn="l" pos="1514520"/>
                  <a:tab algn="l" pos="1766880"/>
                  <a:tab algn="l" pos="2019240"/>
                  <a:tab algn="l" pos="2271600"/>
                  <a:tab algn="l" pos="2523960"/>
                  <a:tab algn="l" pos="2776680"/>
                  <a:tab algn="l" pos="3029040"/>
                  <a:tab algn="l" pos="3281400"/>
                  <a:tab algn="l" pos="3533760"/>
                  <a:tab algn="l" pos="3786120"/>
                  <a:tab algn="l" pos="4038480"/>
                  <a:tab algn="l" pos="4290840"/>
                  <a:tab algn="l" pos="4543560"/>
                  <a:tab algn="l" pos="4795920"/>
                  <a:tab algn="l" pos="5048280"/>
                </a:tabLst>
              </a:pPr>
              <a:r>
                <a:rPr b="0" lang="ru-RU" sz="1100" spc="-1" strike="noStrike">
                  <a:solidFill>
                    <a:srgbClr val="696a6c"/>
                  </a:solidFill>
                  <a:latin typeface="Arial"/>
                  <a:ea typeface="Arial"/>
                </a:rPr>
                <a:t>Комплексные решения для телекома, энергетики, финансов, транспорта и  безопаснос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21"/>
          <p:cNvGrpSpPr/>
          <p:nvPr/>
        </p:nvGrpSpPr>
        <p:grpSpPr>
          <a:xfrm>
            <a:off x="6516360" y="4505040"/>
            <a:ext cx="2376360" cy="700560"/>
            <a:chOff x="6516360" y="4505040"/>
            <a:chExt cx="2376360" cy="700560"/>
          </a:xfrm>
        </p:grpSpPr>
        <p:sp>
          <p:nvSpPr>
            <p:cNvPr id="504" name="AutoShape 22"/>
            <p:cNvSpPr/>
            <p:nvPr/>
          </p:nvSpPr>
          <p:spPr>
            <a:xfrm rot="10800000">
              <a:off x="6516360" y="4505040"/>
              <a:ext cx="2376360" cy="679320"/>
            </a:xfrm>
            <a:custGeom>
              <a:avLst/>
              <a:gdLst>
                <a:gd name="textAreaLeft" fmla="*/ 0 w 2376360"/>
                <a:gd name="textAreaRight" fmla="*/ 2376720 w 237636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>
                <a:alpha val="2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23"/>
            <p:cNvSpPr/>
            <p:nvPr/>
          </p:nvSpPr>
          <p:spPr>
            <a:xfrm>
              <a:off x="6843600" y="4549680"/>
              <a:ext cx="20145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spAutoFit/>
            </a:bodyPr>
            <a:p>
              <a:pPr marL="181080" indent="-3240">
                <a:spcBef>
                  <a:spcPts val="751"/>
                </a:spcBef>
                <a:tabLst>
                  <a:tab algn="l" pos="0"/>
                  <a:tab algn="l" pos="252360"/>
                  <a:tab algn="l" pos="504720"/>
                  <a:tab algn="l" pos="757080"/>
                  <a:tab algn="l" pos="1009800"/>
                  <a:tab algn="l" pos="1262160"/>
                  <a:tab algn="l" pos="1514520"/>
                  <a:tab algn="l" pos="1766880"/>
                  <a:tab algn="l" pos="2019240"/>
                  <a:tab algn="l" pos="2271600"/>
                  <a:tab algn="l" pos="2523960"/>
                  <a:tab algn="l" pos="2776680"/>
                  <a:tab algn="l" pos="3029040"/>
                  <a:tab algn="l" pos="3281400"/>
                  <a:tab algn="l" pos="3533760"/>
                  <a:tab algn="l" pos="3786120"/>
                  <a:tab algn="l" pos="4038480"/>
                  <a:tab algn="l" pos="4290840"/>
                  <a:tab algn="l" pos="4543560"/>
                  <a:tab algn="l" pos="4795920"/>
                  <a:tab algn="l" pos="5048280"/>
                </a:tabLst>
              </a:pPr>
              <a:r>
                <a:rPr b="0" lang="ru-RU" sz="1200" spc="-1" strike="noStrike">
                  <a:solidFill>
                    <a:srgbClr val="696a6c"/>
                  </a:solidFill>
                  <a:latin typeface="Arial"/>
                  <a:ea typeface="Arial"/>
                </a:rPr>
                <a:t>Высококонкурентная стоимость рабочей сил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Rectangle 24"/>
          <p:cNvSpPr/>
          <p:nvPr/>
        </p:nvSpPr>
        <p:spPr>
          <a:xfrm>
            <a:off x="0" y="5589720"/>
            <a:ext cx="6659640" cy="792000"/>
          </a:xfrm>
          <a:prstGeom prst="rect">
            <a:avLst/>
          </a:prstGeom>
          <a:solidFill>
            <a:srgbClr val="696a6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ctr">
            <a:noAutofit/>
          </a:bodyPr>
          <a:p>
            <a:pPr marL="358920" indent="-358920">
              <a:spcBef>
                <a:spcPts val="17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Благодаря высокому научно-техническому потенциалу СИТРОНИКС способен оперативно создавать и выводить на рынок конкурентоспособные продукты и ре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5"/>
          <p:cNvSpPr/>
          <p:nvPr/>
        </p:nvSpPr>
        <p:spPr>
          <a:xfrm>
            <a:off x="250920" y="1268280"/>
            <a:ext cx="8596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Портфель продуктов и решений «СИТРОНИКС» формируется на основе государственного заказа и собственных масштабных исследований и разработок, а также за счет активного развития партнерства с ведущими международными технологическими лидер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C5F1A-2D27-4F38-AD5D-D197143B4E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Номер слайда 4"/>
          <p:cNvSpPr/>
          <p:nvPr/>
        </p:nvSpPr>
        <p:spPr>
          <a:xfrm>
            <a:off x="468360" y="64533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5A80-BF06-461F-B226-54868F4878FF}" type="slidenum">
              <a:rPr b="0" lang="ru-RU" sz="1000" spc="-1" strike="noStrike">
                <a:solidFill>
                  <a:srgbClr val="696a6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7569360" y="4157640"/>
            <a:ext cx="1143000" cy="57168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31280" y="207720"/>
            <a:ext cx="84250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СИТРОНИКС: Экосистема партнерства с мировыми лидерами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2"/>
          <a:stretch/>
        </p:blipFill>
        <p:spPr>
          <a:xfrm>
            <a:off x="3941640" y="1449360"/>
            <a:ext cx="1260720" cy="2793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"/>
          <p:cNvPicPr/>
          <p:nvPr/>
        </p:nvPicPr>
        <p:blipFill>
          <a:blip r:embed="rId3"/>
          <a:stretch/>
        </p:blipFill>
        <p:spPr>
          <a:xfrm>
            <a:off x="522360" y="1405080"/>
            <a:ext cx="855720" cy="3585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"/>
          <p:cNvPicPr/>
          <p:nvPr/>
        </p:nvPicPr>
        <p:blipFill>
          <a:blip r:embed="rId4"/>
          <a:stretch/>
        </p:blipFill>
        <p:spPr>
          <a:xfrm>
            <a:off x="7632720" y="2303640"/>
            <a:ext cx="1035000" cy="517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"/>
          <p:cNvPicPr/>
          <p:nvPr/>
        </p:nvPicPr>
        <p:blipFill>
          <a:blip r:embed="rId5"/>
          <a:stretch/>
        </p:blipFill>
        <p:spPr>
          <a:xfrm>
            <a:off x="7767720" y="1359000"/>
            <a:ext cx="720720" cy="46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8" descr=""/>
          <p:cNvPicPr/>
          <p:nvPr/>
        </p:nvPicPr>
        <p:blipFill>
          <a:blip r:embed="rId6"/>
          <a:stretch/>
        </p:blipFill>
        <p:spPr>
          <a:xfrm>
            <a:off x="206280" y="5103720"/>
            <a:ext cx="1214640" cy="465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"/>
          <p:cNvPicPr/>
          <p:nvPr/>
        </p:nvPicPr>
        <p:blipFill>
          <a:blip r:embed="rId7"/>
          <a:stretch/>
        </p:blipFill>
        <p:spPr>
          <a:xfrm>
            <a:off x="3213000" y="5013360"/>
            <a:ext cx="1224000" cy="4716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"/>
          <p:cNvPicPr/>
          <p:nvPr/>
        </p:nvPicPr>
        <p:blipFill>
          <a:blip r:embed="rId8"/>
          <a:stretch/>
        </p:blipFill>
        <p:spPr>
          <a:xfrm>
            <a:off x="522360" y="342900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1" descr=""/>
          <p:cNvPicPr/>
          <p:nvPr/>
        </p:nvPicPr>
        <p:blipFill>
          <a:blip r:embed="rId9"/>
          <a:srcRect l="0" t="31513" r="0" b="31681"/>
          <a:stretch/>
        </p:blipFill>
        <p:spPr>
          <a:xfrm>
            <a:off x="385920" y="2303640"/>
            <a:ext cx="1071360" cy="3157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2" descr=""/>
          <p:cNvPicPr/>
          <p:nvPr/>
        </p:nvPicPr>
        <p:blipFill>
          <a:blip r:embed="rId10"/>
          <a:stretch/>
        </p:blipFill>
        <p:spPr>
          <a:xfrm>
            <a:off x="2097000" y="2079720"/>
            <a:ext cx="1081080" cy="7189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3" descr=""/>
          <p:cNvPicPr/>
          <p:nvPr/>
        </p:nvPicPr>
        <p:blipFill>
          <a:blip r:embed="rId11"/>
          <a:stretch/>
        </p:blipFill>
        <p:spPr>
          <a:xfrm>
            <a:off x="7750080" y="5049720"/>
            <a:ext cx="782640" cy="4003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4" descr=""/>
          <p:cNvPicPr/>
          <p:nvPr/>
        </p:nvPicPr>
        <p:blipFill>
          <a:blip r:embed="rId12"/>
          <a:stretch/>
        </p:blipFill>
        <p:spPr>
          <a:xfrm>
            <a:off x="1692360" y="4248000"/>
            <a:ext cx="1123920" cy="3319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5" descr=""/>
          <p:cNvPicPr/>
          <p:nvPr/>
        </p:nvPicPr>
        <p:blipFill>
          <a:blip r:embed="rId13"/>
          <a:stretch/>
        </p:blipFill>
        <p:spPr>
          <a:xfrm>
            <a:off x="8037360" y="3519360"/>
            <a:ext cx="765360" cy="449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6" descr=""/>
          <p:cNvPicPr/>
          <p:nvPr/>
        </p:nvPicPr>
        <p:blipFill>
          <a:blip r:embed="rId14"/>
          <a:stretch/>
        </p:blipFill>
        <p:spPr>
          <a:xfrm>
            <a:off x="2322360" y="1446120"/>
            <a:ext cx="719280" cy="3621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7" descr=""/>
          <p:cNvPicPr/>
          <p:nvPr/>
        </p:nvPicPr>
        <p:blipFill>
          <a:blip r:embed="rId15"/>
          <a:stretch/>
        </p:blipFill>
        <p:spPr>
          <a:xfrm>
            <a:off x="297000" y="4319640"/>
            <a:ext cx="855360" cy="3794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8" descr=""/>
          <p:cNvPicPr/>
          <p:nvPr/>
        </p:nvPicPr>
        <p:blipFill>
          <a:blip r:embed="rId16"/>
          <a:stretch/>
        </p:blipFill>
        <p:spPr>
          <a:xfrm>
            <a:off x="4662360" y="5103720"/>
            <a:ext cx="630360" cy="3636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9" descr=""/>
          <p:cNvPicPr/>
          <p:nvPr/>
        </p:nvPicPr>
        <p:blipFill>
          <a:blip r:embed="rId17"/>
          <a:stretch/>
        </p:blipFill>
        <p:spPr>
          <a:xfrm>
            <a:off x="6777000" y="5815080"/>
            <a:ext cx="1300320" cy="2491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0" descr=""/>
          <p:cNvPicPr/>
          <p:nvPr/>
        </p:nvPicPr>
        <p:blipFill>
          <a:blip r:embed="rId18"/>
          <a:stretch/>
        </p:blipFill>
        <p:spPr>
          <a:xfrm>
            <a:off x="5788080" y="3535200"/>
            <a:ext cx="584280" cy="389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1" descr=""/>
          <p:cNvPicPr/>
          <p:nvPr/>
        </p:nvPicPr>
        <p:blipFill>
          <a:blip r:embed="rId19"/>
          <a:stretch/>
        </p:blipFill>
        <p:spPr>
          <a:xfrm>
            <a:off x="6821640" y="3492360"/>
            <a:ext cx="944280" cy="5670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2" descr=""/>
          <p:cNvPicPr/>
          <p:nvPr/>
        </p:nvPicPr>
        <p:blipFill>
          <a:blip r:embed="rId20"/>
          <a:stretch/>
        </p:blipFill>
        <p:spPr>
          <a:xfrm>
            <a:off x="4302000" y="3537000"/>
            <a:ext cx="1035000" cy="3873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3" descr=""/>
          <p:cNvPicPr/>
          <p:nvPr/>
        </p:nvPicPr>
        <p:blipFill>
          <a:blip r:embed="rId21"/>
          <a:srcRect l="0" t="24439" r="0" b="28345"/>
          <a:stretch/>
        </p:blipFill>
        <p:spPr>
          <a:xfrm>
            <a:off x="6237360" y="4068720"/>
            <a:ext cx="1123920" cy="5317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4" descr=""/>
          <p:cNvPicPr/>
          <p:nvPr/>
        </p:nvPicPr>
        <p:blipFill>
          <a:blip r:embed="rId22"/>
          <a:stretch/>
        </p:blipFill>
        <p:spPr>
          <a:xfrm>
            <a:off x="3311640" y="3562200"/>
            <a:ext cx="631800" cy="3160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5" descr=""/>
          <p:cNvPicPr/>
          <p:nvPr/>
        </p:nvPicPr>
        <p:blipFill>
          <a:blip r:embed="rId23"/>
          <a:stretch/>
        </p:blipFill>
        <p:spPr>
          <a:xfrm>
            <a:off x="4572000" y="4292640"/>
            <a:ext cx="1305000" cy="336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6" descr=""/>
          <p:cNvPicPr/>
          <p:nvPr/>
        </p:nvPicPr>
        <p:blipFill>
          <a:blip r:embed="rId24"/>
          <a:stretch/>
        </p:blipFill>
        <p:spPr>
          <a:xfrm>
            <a:off x="1827360" y="5003640"/>
            <a:ext cx="855360" cy="4622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7" descr=""/>
          <p:cNvPicPr/>
          <p:nvPr/>
        </p:nvPicPr>
        <p:blipFill>
          <a:blip r:embed="rId25"/>
          <a:stretch/>
        </p:blipFill>
        <p:spPr>
          <a:xfrm>
            <a:off x="5967360" y="5589720"/>
            <a:ext cx="414360" cy="6379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8" descr=""/>
          <p:cNvPicPr/>
          <p:nvPr/>
        </p:nvPicPr>
        <p:blipFill>
          <a:blip r:embed="rId26"/>
          <a:stretch/>
        </p:blipFill>
        <p:spPr>
          <a:xfrm>
            <a:off x="385920" y="5778360"/>
            <a:ext cx="1079280" cy="3682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9" descr=""/>
          <p:cNvPicPr/>
          <p:nvPr/>
        </p:nvPicPr>
        <p:blipFill>
          <a:blip r:embed="rId27"/>
          <a:stretch/>
        </p:blipFill>
        <p:spPr>
          <a:xfrm>
            <a:off x="3311640" y="4203720"/>
            <a:ext cx="676080" cy="4334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0" descr=""/>
          <p:cNvPicPr/>
          <p:nvPr/>
        </p:nvPicPr>
        <p:blipFill>
          <a:blip r:embed="rId28"/>
          <a:stretch/>
        </p:blipFill>
        <p:spPr>
          <a:xfrm>
            <a:off x="6102360" y="5003640"/>
            <a:ext cx="982800" cy="5130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3" descr="Cisco Systems, Inc."/>
          <p:cNvPicPr/>
          <p:nvPr/>
        </p:nvPicPr>
        <p:blipFill>
          <a:blip r:embed="rId29"/>
          <a:srcRect l="13746" t="20715" r="13746" b="15536"/>
          <a:stretch/>
        </p:blipFill>
        <p:spPr>
          <a:xfrm>
            <a:off x="4211640" y="2303640"/>
            <a:ext cx="647640" cy="3999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1" descr="Infineon Technologies AG_Mar03"/>
          <p:cNvPicPr/>
          <p:nvPr/>
        </p:nvPicPr>
        <p:blipFill>
          <a:blip r:embed="rId30"/>
          <a:stretch/>
        </p:blipFill>
        <p:spPr>
          <a:xfrm>
            <a:off x="1870200" y="3608280"/>
            <a:ext cx="946080" cy="331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2" descr="st_logo"/>
          <p:cNvPicPr/>
          <p:nvPr/>
        </p:nvPicPr>
        <p:blipFill>
          <a:blip r:embed="rId31"/>
          <a:stretch/>
        </p:blipFill>
        <p:spPr>
          <a:xfrm>
            <a:off x="4167360" y="5778360"/>
            <a:ext cx="853920" cy="395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5" descr="Giesecke &amp; Devrient"/>
          <p:cNvPicPr/>
          <p:nvPr/>
        </p:nvPicPr>
        <p:blipFill>
          <a:blip r:embed="rId32"/>
          <a:stretch/>
        </p:blipFill>
        <p:spPr>
          <a:xfrm>
            <a:off x="1916280" y="5869080"/>
            <a:ext cx="1620720" cy="160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5" descr="i?id=34768821&amp;tov=4"/>
          <p:cNvPicPr/>
          <p:nvPr/>
        </p:nvPicPr>
        <p:blipFill>
          <a:blip r:embed="rId33"/>
          <a:stretch/>
        </p:blipFill>
        <p:spPr>
          <a:xfrm>
            <a:off x="5967360" y="1314360"/>
            <a:ext cx="900000" cy="6112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6"/>
          <p:cNvSpPr/>
          <p:nvPr/>
        </p:nvSpPr>
        <p:spPr>
          <a:xfrm>
            <a:off x="160200" y="1719360"/>
            <a:ext cx="1890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1" lang="en-US" sz="1000" spc="-1" strike="noStrike">
                <a:solidFill>
                  <a:srgbClr val="696a6c"/>
                </a:solidFill>
                <a:latin typeface="Arial"/>
                <a:ea typeface="Arial"/>
              </a:rPr>
              <a:t>Premier Business Part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7"/>
          <p:cNvSpPr/>
          <p:nvPr/>
        </p:nvSpPr>
        <p:spPr>
          <a:xfrm>
            <a:off x="3762360" y="1728720"/>
            <a:ext cx="1800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1" lang="en-US" sz="1000" spc="-1" strike="noStrike">
                <a:solidFill>
                  <a:srgbClr val="696a6c"/>
                </a:solidFill>
                <a:latin typeface="Arial"/>
                <a:ea typeface="Arial"/>
              </a:rPr>
              <a:t>Oracle Certified Part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8"/>
          <p:cNvSpPr/>
          <p:nvPr/>
        </p:nvSpPr>
        <p:spPr>
          <a:xfrm>
            <a:off x="7542360" y="1778040"/>
            <a:ext cx="1260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1" lang="en-US" sz="1000" spc="-1" strike="noStrike">
                <a:solidFill>
                  <a:srgbClr val="696a6c"/>
                </a:solidFill>
                <a:latin typeface="Arial"/>
                <a:ea typeface="Arial"/>
              </a:rPr>
              <a:t>Preferred Part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9"/>
          <p:cNvSpPr/>
          <p:nvPr/>
        </p:nvSpPr>
        <p:spPr>
          <a:xfrm>
            <a:off x="162000" y="2655720"/>
            <a:ext cx="1530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1" lang="en-US" sz="1000" spc="-1" strike="noStrike">
                <a:solidFill>
                  <a:srgbClr val="696a6c"/>
                </a:solidFill>
                <a:latin typeface="Arial"/>
                <a:ea typeface="Arial"/>
              </a:rPr>
              <a:t>Gold Certified Partner \ Large Account Rese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0"/>
          <p:cNvSpPr/>
          <p:nvPr/>
        </p:nvSpPr>
        <p:spPr>
          <a:xfrm>
            <a:off x="1827360" y="2708280"/>
            <a:ext cx="1800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1" lang="en-US" sz="1000" spc="-1" strike="noStrike">
                <a:solidFill>
                  <a:srgbClr val="696a6c"/>
                </a:solidFill>
                <a:latin typeface="Arial"/>
                <a:ea typeface="Arial"/>
              </a:rPr>
              <a:t>Sales Partner SME \ Unified Communications (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41" descr=""/>
          <p:cNvPicPr/>
          <p:nvPr/>
        </p:nvPicPr>
        <p:blipFill>
          <a:blip r:embed="rId34"/>
          <a:stretch/>
        </p:blipFill>
        <p:spPr>
          <a:xfrm>
            <a:off x="5786280" y="2259000"/>
            <a:ext cx="1057320" cy="56196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42"/>
          <p:cNvSpPr/>
          <p:nvPr/>
        </p:nvSpPr>
        <p:spPr>
          <a:xfrm>
            <a:off x="5651640" y="2843280"/>
            <a:ext cx="1260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1" lang="en-US" sz="1000" spc="-1" strike="noStrike">
                <a:solidFill>
                  <a:srgbClr val="696a6c"/>
                </a:solidFill>
                <a:latin typeface="Arial"/>
                <a:ea typeface="Arial"/>
              </a:rPr>
              <a:t>HDS Silver Part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3"/>
          <p:cNvSpPr/>
          <p:nvPr/>
        </p:nvSpPr>
        <p:spPr>
          <a:xfrm>
            <a:off x="1916280" y="1719360"/>
            <a:ext cx="1800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1" lang="en-US" sz="1000" spc="-1" strike="noStrike">
                <a:solidFill>
                  <a:srgbClr val="696a6c"/>
                </a:solidFill>
                <a:latin typeface="Arial"/>
                <a:ea typeface="Arial"/>
              </a:rPr>
              <a:t>APC Authorized Part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4"/>
          <p:cNvSpPr/>
          <p:nvPr/>
        </p:nvSpPr>
        <p:spPr>
          <a:xfrm>
            <a:off x="3851280" y="2754360"/>
            <a:ext cx="1485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1" lang="en-US" sz="1000" spc="-1" strike="noStrike">
                <a:solidFill>
                  <a:srgbClr val="696a6c"/>
                </a:solidFill>
                <a:latin typeface="Arial"/>
                <a:ea typeface="Arial"/>
              </a:rPr>
              <a:t>Gold Certified Part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5"/>
          <p:cNvSpPr/>
          <p:nvPr/>
        </p:nvSpPr>
        <p:spPr>
          <a:xfrm>
            <a:off x="5651640" y="1719360"/>
            <a:ext cx="1800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1" lang="en-US" sz="1000" spc="-1" strike="noStrike">
                <a:solidFill>
                  <a:srgbClr val="696a6c"/>
                </a:solidFill>
                <a:latin typeface="Arial"/>
                <a:ea typeface="Arial"/>
              </a:rPr>
              <a:t>Avaya Business Part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6"/>
          <p:cNvSpPr/>
          <p:nvPr/>
        </p:nvSpPr>
        <p:spPr>
          <a:xfrm>
            <a:off x="7362720" y="2798640"/>
            <a:ext cx="14860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1" lang="en-US" sz="1000" spc="-1" strike="noStrike">
                <a:solidFill>
                  <a:srgbClr val="696a6c"/>
                </a:solidFill>
                <a:latin typeface="Arial"/>
                <a:ea typeface="Arial"/>
              </a:rPr>
              <a:t>Top Part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F1D26-F618-4DDA-9AB2-D7B0CA7932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Номер слайда 4"/>
          <p:cNvSpPr/>
          <p:nvPr/>
        </p:nvSpPr>
        <p:spPr>
          <a:xfrm>
            <a:off x="468360" y="64533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4FAF-1A6F-4AA2-A55B-602639360FDE}" type="slidenum">
              <a:rPr b="0" lang="ru-RU" sz="1000" spc="-1" strike="noStrike">
                <a:solidFill>
                  <a:srgbClr val="696a6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СИТРОНИКС:</a:t>
            </a:r>
            <a:br>
              <a:rPr sz="2000"/>
            </a:b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Некоторые собственные продукты и разработки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374480" y="1403280"/>
            <a:ext cx="7335720" cy="8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96a6c"/>
                </a:solidFill>
                <a:latin typeface="Arial"/>
              </a:rPr>
              <a:t>Мобильный ЦОД «СИТРОНИКС Датериум™» – готовая инфраструктура для установки ИТ и телеком оборудования, размещенная в стандартном транспортном контейнере.</a:t>
            </a:r>
            <a:endParaRPr b="0" lang="en-US" sz="1200" spc="-1" strike="noStrike">
              <a:solidFill>
                <a:srgbClr val="696a6c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96a6c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1"/>
          <a:stretch/>
        </p:blipFill>
        <p:spPr>
          <a:xfrm>
            <a:off x="341280" y="1314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"/>
          <p:cNvPicPr/>
          <p:nvPr/>
        </p:nvPicPr>
        <p:blipFill>
          <a:blip r:embed="rId2"/>
          <a:stretch/>
        </p:blipFill>
        <p:spPr>
          <a:xfrm>
            <a:off x="341280" y="2349360"/>
            <a:ext cx="728640" cy="72864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8"/>
          <p:cNvSpPr/>
          <p:nvPr/>
        </p:nvSpPr>
        <p:spPr>
          <a:xfrm>
            <a:off x="1328760" y="2349360"/>
            <a:ext cx="7289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Инновационное отечественное решение для системы образования, охватывающее все ключевые учебные процессы и масштабируемое до уровня региона и ок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01"/>
          <p:cNvSpPr/>
          <p:nvPr/>
        </p:nvSpPr>
        <p:spPr>
          <a:xfrm>
            <a:off x="250920" y="2214720"/>
            <a:ext cx="86770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01"/>
          <p:cNvSpPr/>
          <p:nvPr/>
        </p:nvSpPr>
        <p:spPr>
          <a:xfrm>
            <a:off x="250920" y="4329000"/>
            <a:ext cx="86770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6054840" y="3059280"/>
            <a:ext cx="260964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340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1374840" y="3463920"/>
            <a:ext cx="719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АгроКлевер™ является единственным на территории СНГ продуктом, объединяющим как общие функции управления финансами, материальными ресурсами и кадрами, так и специфичные функции управления аграрным производств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7"/>
          <p:cNvSpPr/>
          <p:nvPr/>
        </p:nvSpPr>
        <p:spPr>
          <a:xfrm>
            <a:off x="0" y="5589720"/>
            <a:ext cx="6659640" cy="792000"/>
          </a:xfrm>
          <a:prstGeom prst="rect">
            <a:avLst/>
          </a:prstGeom>
          <a:solidFill>
            <a:srgbClr val="696a6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ctr">
            <a:noAutofit/>
          </a:bodyPr>
          <a:p>
            <a:pPr marL="358920" indent="-358920">
              <a:spcBef>
                <a:spcPts val="17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СИТРОНИКС активно разрабатывает собственные продукты, нацеленные на оптимизацию работ в ключевых отраслях российской и мировой эконом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0"/>
          <p:cNvSpPr/>
          <p:nvPr/>
        </p:nvSpPr>
        <p:spPr>
          <a:xfrm>
            <a:off x="1285920" y="4599000"/>
            <a:ext cx="7154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МСДМ «НИКА» - спутниковое решение позиционирования транспорта и других объектов для корпоративных клиентов и частных лиц, способное увеличить эффективность предприятия и сократить издержки.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01"/>
          <p:cNvSpPr/>
          <p:nvPr/>
        </p:nvSpPr>
        <p:spPr>
          <a:xfrm>
            <a:off x="250920" y="3249720"/>
            <a:ext cx="86770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341280" y="455436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341280" y="342900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3BCA5-6CDE-4327-8E18-D860118A93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Номер слайда 2"/>
          <p:cNvSpPr/>
          <p:nvPr/>
        </p:nvSpPr>
        <p:spPr>
          <a:xfrm>
            <a:off x="468360" y="64533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89A3-72E7-45F5-AF34-0B782D62C939}" type="slidenum">
              <a:rPr b="0" lang="ru-RU" sz="1000" spc="-1" strike="noStrike">
                <a:solidFill>
                  <a:srgbClr val="696a6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237960" y="1262160"/>
            <a:ext cx="8655120" cy="4371840"/>
          </a:xfrm>
          <a:prstGeom prst="rect">
            <a:avLst/>
          </a:prstGeom>
          <a:gradFill rotWithShape="0">
            <a:gsLst>
              <a:gs pos="0">
                <a:srgbClr val="eaeaea">
                  <a:alpha val="49019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spcBef>
                <a:spcPts val="675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96a6c"/>
                </a:solidFill>
                <a:latin typeface="Arial"/>
                <a:ea typeface="Arial"/>
              </a:rPr>
              <a:t>СИТРОНИКС, одновременно является разработчиком, производителем и интегратором, что позволяет наиболее полно удовлетворять  потребности клиента, минимизируя затраты и сроки внедрения.</a:t>
            </a:r>
            <a:br>
              <a:rPr sz="1800"/>
            </a:br>
            <a:r>
              <a:rPr b="1" lang="ru-RU" sz="1800" spc="-1" strike="noStrike">
                <a:solidFill>
                  <a:srgbClr val="696a6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96a6c"/>
                </a:solidFill>
                <a:latin typeface="Arial"/>
                <a:ea typeface="Arial"/>
              </a:rPr>
              <a:t>Успешный, многолетний опыт внедрения и интеграции ИТ решений в крупнейших компаниях России, СНГ и Европы.</a:t>
            </a:r>
            <a:br>
              <a:rPr sz="1800"/>
            </a:br>
            <a:r>
              <a:rPr b="1" lang="ru-RU" sz="1800" spc="-1" strike="noStrike">
                <a:solidFill>
                  <a:srgbClr val="696a6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96a6c"/>
                </a:solidFill>
                <a:latin typeface="Arial"/>
                <a:ea typeface="Arial"/>
              </a:rPr>
              <a:t>Выгодные ценовые схемы и предложение во всех сегментах и направлениях.</a:t>
            </a:r>
            <a:br>
              <a:rPr sz="1800"/>
            </a:br>
            <a:r>
              <a:rPr b="1" lang="ru-RU" sz="1800" spc="-1" strike="noStrike">
                <a:solidFill>
                  <a:srgbClr val="696a6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96a6c"/>
                </a:solidFill>
                <a:latin typeface="Arial"/>
                <a:ea typeface="Arial"/>
              </a:rPr>
              <a:t>Собственное </a:t>
            </a:r>
            <a:r>
              <a:rPr b="1" lang="en-US" sz="1800" spc="-1" strike="noStrike">
                <a:solidFill>
                  <a:srgbClr val="696a6c"/>
                </a:solidFill>
                <a:latin typeface="Arial"/>
                <a:ea typeface="Arial"/>
              </a:rPr>
              <a:t>R&amp;D</a:t>
            </a:r>
            <a:r>
              <a:rPr b="1" lang="ru-RU" sz="1800" spc="-1" strike="noStrike">
                <a:solidFill>
                  <a:srgbClr val="696a6c"/>
                </a:solidFill>
                <a:latin typeface="Arial"/>
                <a:ea typeface="Arial"/>
              </a:rPr>
              <a:t> направление и глобальная техническая поддержка 24х7.</a:t>
            </a:r>
            <a:br>
              <a:rPr sz="1800"/>
            </a:br>
            <a:r>
              <a:rPr b="1" lang="ru-RU" sz="1800" spc="-1" strike="noStrike">
                <a:solidFill>
                  <a:srgbClr val="696a6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96a6c"/>
                </a:solidFill>
                <a:latin typeface="Arial"/>
                <a:ea typeface="Arial"/>
              </a:rPr>
              <a:t>Уникальный набор собственных продуктов, решений и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0"/>
          <p:cNvSpPr/>
          <p:nvPr/>
        </p:nvSpPr>
        <p:spPr>
          <a:xfrm>
            <a:off x="412920" y="210960"/>
            <a:ext cx="8424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  <a:ea typeface="Arial"/>
              </a:rPr>
              <a:t>СИТРОНИКС:</a:t>
            </a:r>
            <a:br>
              <a:rPr sz="2000"/>
            </a:br>
            <a:r>
              <a:rPr b="1" lang="en-US" sz="2000" spc="-1" strike="noStrike">
                <a:solidFill>
                  <a:srgbClr val="696a6c"/>
                </a:solidFill>
                <a:latin typeface="Arial"/>
                <a:ea typeface="Arial"/>
              </a:rPr>
              <a:t>Ключевые конкурентные 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6B427-4420-4E7A-AC37-8C2B10A990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8280" y="2552400"/>
            <a:ext cx="8209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a6c"/>
                </a:solidFill>
                <a:latin typeface="Arial"/>
              </a:rPr>
              <a:t>Услуги и решения </a:t>
            </a:r>
            <a:br>
              <a:rPr sz="2800"/>
            </a:br>
            <a:r>
              <a:rPr b="1" lang="en-US" sz="2800" spc="-1" strike="noStrike">
                <a:solidFill>
                  <a:srgbClr val="696a6c"/>
                </a:solidFill>
                <a:latin typeface="Arial"/>
              </a:rPr>
              <a:t>ОАО «СИТРОНИКС»</a:t>
            </a:r>
            <a:endParaRPr b="1" lang="en-US" sz="2800" spc="-1" strike="noStrike">
              <a:solidFill>
                <a:srgbClr val="696a6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a6c"/>
                </a:solidFill>
                <a:latin typeface="Arial"/>
              </a:rPr>
              <a:t>Услуги и решения СИТРОНИКС</a:t>
            </a: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Услуги в области разработки ИТ-стратегии;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Построение телекоммуникационной и ИТ-инфраструктуры;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Услуги в области проектирования, построения и наладки инженерных решений;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Системы хранения данных и Центры обработки данных (ЦОД);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Корпоративная телефония и контакт центры;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Построение системы управления отношениями с клиентами (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CRM)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Управление бэк-офисными операциями телекоммуникационной компании;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Стратегическое планирование и управление эффективностью компании;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Услуги СИТРОНИКС в области внедрения бизнес-приложений и технологий 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Oracle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Интеграция информационных систем и бизнес-процессов;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Услуги в области сетевой информационной безопасности;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Услуги в области проектирования и построения сетей связи следующего поколения (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NGN) 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и беспроводных сетей (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WiMAX)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Услуги ИТ-аутсорсинга и поддержки ИТ-инфраструктуры;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Федеральная Система Мониторинга и Управления транспортом «НИКА» (совместный проект с ОАО «МТС»).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02FE-AE50-4465-87CD-7ECCD8430F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Разработка ИТ-стратегии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50920" y="1268280"/>
            <a:ext cx="8648640" cy="1170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Своевременная разработка ИТ-стратегии наиболее важна для организаций, где влияние информационных технологий на бизнес является значительным или определяющим. Колоссальный опыт СИТРОНИКС дает возможность квалифицированно и с оптимальным использованием времени разрабатывать IT-стратегию для компаний с пониманием индивидуальной специфики сложившейся бизнес-практи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2360" y="2484360"/>
            <a:ext cx="62992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Основные составляющие ИТ-стратег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Определение приоритетных задач ИТ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Оценка архитектурных и технологических ограничений, анализ имеющихся ресурс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Разработка структурной модели КИС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Разработка методики оценки результатов реализации стратеги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Разработка методики контроля соответствия проектов ИТ-стратеги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Разработка методики обоснования инвестиций в ИТ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Разработка методик расчета отдачи от инвестиций (ROI) и стоимости владения КИС (ТСО)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Картинка 86 из 1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86640" y="2664000"/>
            <a:ext cx="2228760" cy="21398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0" y="5408640"/>
            <a:ext cx="6686640" cy="990720"/>
          </a:xfrm>
          <a:prstGeom prst="rect">
            <a:avLst/>
          </a:prstGeom>
          <a:solidFill>
            <a:srgbClr val="696a6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ctr">
            <a:noAutofit/>
          </a:bodyPr>
          <a:p>
            <a:pPr marL="358920" indent="-358920">
              <a:spcBef>
                <a:spcPts val="17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нижение затрат на внедрение и сопровождение ИТ-систем за счет унификации и централизации процессов управления информатизацией предприя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767D6-36A7-4510-BAD6-55E413D2D9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206280" y="1065240"/>
          <a:ext cx="873144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065240"/>
                    <a:ext cx="873144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a6c"/>
                </a:solidFill>
                <a:latin typeface="Arial"/>
              </a:rPr>
              <a:t>СИТРОНИКС</a:t>
            </a: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696a6c"/>
                </a:solidFill>
                <a:latin typeface="Arial"/>
              </a:rPr>
              <a:t>Уникальность положения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0" y="3284640"/>
          <a:ext cx="4321080" cy="2574720"/>
        </p:xfrm>
        <a:graphic>
          <a:graphicData uri="http://schemas.openxmlformats.org/drawingml/2006/table">
            <a:tbl>
              <a:tblPr/>
              <a:tblGrid>
                <a:gridCol w="432108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689"/>
                        </a:spcBef>
                        <a:buClr>
                          <a:srgbClr val="f0ca00"/>
                        </a:buClr>
                        <a:buSzPct val="130000"/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от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2008 году - более 2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лрд.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6c6c6"/>
                        </a:gs>
                        <a:gs pos="100000">
                          <a:srgbClr val="eaeaea"/>
                        </a:gs>
                      </a:gsLst>
                      <a:lin ang="10800000"/>
                    </a:gra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689"/>
                        </a:spcBef>
                        <a:buClr>
                          <a:srgbClr val="f0ca00"/>
                        </a:buClr>
                        <a:buSzPct val="130000"/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в рейтинге «Российские информационные и коммуникационные технологии»  в 2008 году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6c6c6"/>
                        </a:gs>
                        <a:gs pos="100000">
                          <a:srgbClr val="eaeaea"/>
                        </a:gs>
                      </a:gsLst>
                      <a:lin ang="10800000"/>
                    </a:gra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689"/>
                        </a:spcBef>
                        <a:buClr>
                          <a:srgbClr val="f0ca00"/>
                        </a:buClr>
                        <a:buSzPct val="130000"/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таб-квартира в Москве, офисы в 36 стран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6c6c6"/>
                        </a:gs>
                        <a:gs pos="100000">
                          <a:srgbClr val="eaeaea"/>
                        </a:gs>
                      </a:gsLst>
                      <a:lin ang="10800000"/>
                    </a:gra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689"/>
                        </a:spcBef>
                        <a:buClr>
                          <a:srgbClr val="f0ca00"/>
                        </a:buClr>
                        <a:buSzPct val="130000"/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убличная компания, акции на LSE (SIT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6c6c6"/>
                        </a:gs>
                        <a:gs pos="100000">
                          <a:srgbClr val="eaeaea"/>
                        </a:gs>
                      </a:gsLst>
                      <a:lin ang="10800000"/>
                    </a:gra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689"/>
                        </a:spcBef>
                        <a:buClr>
                          <a:srgbClr val="f0ca00"/>
                        </a:buClr>
                        <a:buSzPct val="130000"/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спорт более чем в 60 стр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6c6c6"/>
                        </a:gs>
                        <a:gs pos="100000">
                          <a:srgbClr val="eaeaea"/>
                        </a:gs>
                      </a:gsLst>
                      <a:lin ang="10800000"/>
                    </a:gra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689"/>
                        </a:spcBef>
                        <a:buClr>
                          <a:srgbClr val="f0ca00"/>
                        </a:buClr>
                        <a:buSzPct val="130000"/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ее чем 50-летний опыт разработки и создания инновационных решен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6c6c6"/>
                        </a:gs>
                        <a:gs pos="100000">
                          <a:srgbClr val="eaeaea"/>
                        </a:gs>
                      </a:gsLst>
                      <a:lin ang="10800000"/>
                    </a:gra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689"/>
                        </a:spcBef>
                        <a:buClr>
                          <a:srgbClr val="f0ca00"/>
                        </a:buClr>
                        <a:buSzPct val="130000"/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&amp;D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центры в России, Украине, Чехии, Гре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6c6c6"/>
                        </a:gs>
                        <a:gs pos="100000">
                          <a:srgbClr val="eaeaea"/>
                        </a:gs>
                      </a:gsLst>
                      <a:lin ang="10800000"/>
                    </a:gra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689"/>
                        </a:spcBef>
                        <a:buClr>
                          <a:srgbClr val="f0ca00"/>
                        </a:buClr>
                        <a:buSzPct val="130000"/>
                        <a:buFont typeface="Webdings" charset="2"/>
                        <a:buChar char="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ство в России, Греции, Чехии, Румынии, Кита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6c6c6"/>
                        </a:gs>
                        <a:gs pos="100000">
                          <a:srgbClr val="eaeaea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312840" y="6386400"/>
            <a:ext cx="4246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96a6c"/>
                </a:solidFill>
                <a:latin typeface="Arial"/>
              </a:rPr>
              <a:t>* Источник: Исследование агентства РА Эксперт (2009 г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482520" y="2644920"/>
            <a:ext cx="42840" cy="44280"/>
          </a:xfrm>
          <a:prstGeom prst="ellipse">
            <a:avLst/>
          </a:prstGeom>
          <a:solidFill>
            <a:srgbClr val="f0ca00">
              <a:alpha val="86000"/>
            </a:srgbClr>
          </a:solidFill>
          <a:ln w="6480">
            <a:solidFill>
              <a:srgbClr val="f0c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5480" bIns="-1548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920" y="3286080"/>
            <a:ext cx="4176720" cy="302256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ТРОНИКС – крупнейшая высокотехнологическая компания в СНГ и странах Восточной Европ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ижнем Востоке и Африке;</a:t>
            </a:r>
            <a:endParaRPr b="0" lang="en-US" sz="16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ТРОНИКС разрабатывает, производит, внедряет и интегрирует как собственные, так и партнерские продукты и решения в области микроэлектроники, телекоммуникаций и ИТ-систем.</a:t>
            </a:r>
            <a:endParaRPr b="0" lang="en-US" sz="16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FFA57-49F0-4989-9EDF-FA4F4B17D2E7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Построение телекоммуникационной и ИТ-инфраструктуры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50920" y="1268280"/>
            <a:ext cx="8648640" cy="1035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Крупным компаниям необходима надежная и защищенная инфраструктура, состоящая из телекоммуникационного и ИТ- оборудования, конвергентных сетей связи,  высокотехнологичных студий и операторских. Это определяет их успех, динамичность и прибыльность. ОАО «СИТРОНИКС» вместе с партнерами поможет Вам осуществить э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52360" y="2530440"/>
            <a:ext cx="64803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Телекоммуникационная и ИТ- инфраструктура - 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создание современных систем передачи информации и телекоммуникационных систем, построение распределенных сетей передачи данных любой степени слож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Корпоративные сети связи  - 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решение для создания внутриофисных сетей связи, сочетающее в себе проводные и беспроводные компон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Мониторинг и управление производительностью инфраструктуры, управление отказами -  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повышение эффективности процессов эксплуатации, связанных с мониторингом, анализом производительности и надежности инфраструк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Системы обеспечения информационной безопасности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 - от обследования до сопровождения системы, в том числе услуги по защите автоматизированных информационных систем (АИС), находящихся на любой стадии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6686640" y="2529000"/>
            <a:ext cx="2195280" cy="18810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Картинка 45 из 2071"/>
          <p:cNvPicPr/>
          <p:nvPr/>
        </p:nvPicPr>
        <p:blipFill>
          <a:blip r:embed="rId2"/>
          <a:stretch/>
        </p:blipFill>
        <p:spPr>
          <a:xfrm>
            <a:off x="7202520" y="3968640"/>
            <a:ext cx="1330200" cy="133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F20CF-88F3-4B8A-A471-51FC24D6B8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Услуги в области проектирования, построения и наладки инженерных систем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50920" y="1268280"/>
            <a:ext cx="8648640" cy="990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ОАО «СИТРОНИКС» оказывает полный комплекс услуг в области в области проектирования, монтажа и наладки инженерных систем жилых зданий и промышленных объектов, систем обеспечения комплексной безопасности и контроля доступа в здания, центров поддержки принятия решений и ситуационных цент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41280" y="2619360"/>
            <a:ext cx="630072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Системы автоматики и диспетчеризации на объектах гражданского и промышленного строитель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Системы обеспечения безопасности (охранно-пожарная сигнализация, пожаротушение, контроль доступа и учёт рабочего времени, замкнутое охранное телевидение) и систем энергоснабж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Центры поддержки принятия решений и корпоративного управления, конференц-залов и кабинетов руководителей; систем для презентаций и визуализ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Структурированные кабельные сети (СКС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Центры ситуационного моделиро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Проектирование инженерных сист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Комплексные универсальные решения на базе RFID-технологий для СК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10680" y="2303640"/>
            <a:ext cx="27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Основные системы и услуг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загрузка фотографии"/>
          <p:cNvPicPr/>
          <p:nvPr/>
        </p:nvPicPr>
        <p:blipFill>
          <a:blip r:embed="rId1"/>
          <a:srcRect l="0" t="0" r="38936" b="9055"/>
          <a:stretch/>
        </p:blipFill>
        <p:spPr>
          <a:xfrm>
            <a:off x="6686640" y="2438280"/>
            <a:ext cx="2193840" cy="21798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загрузка фотографии"/>
          <p:cNvPicPr/>
          <p:nvPr/>
        </p:nvPicPr>
        <p:blipFill>
          <a:blip r:embed="rId2"/>
          <a:stretch/>
        </p:blipFill>
        <p:spPr>
          <a:xfrm>
            <a:off x="6912000" y="4014720"/>
            <a:ext cx="1709640" cy="128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5CA92-CADB-4FFE-96A1-FA3ED2D102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Разработка и построение систем хранения данных и центров обработки данных (СХОД, ЦОД)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50920" y="1268280"/>
            <a:ext cx="8648640" cy="1395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Под системой хранения и обработки данных понимается комплексное решение для построения полноценной инфраструктуры, поддерживающей весь жизненный цикл информационных потоков.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СИТРОНИКС предлагает решения и услуги по созданию систем хранения и обработки данных (СХОД), а также защищенных центров обработки данных (ЦОД), обеспечивающих гарантированную доступность и защищенность всех информационных активов предприя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0920" y="2843280"/>
            <a:ext cx="6256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Создание систем хранения и обработки данных*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 –серверное оборудование, хранилища данных, системы резервного копирования, кластерные системы различных типов, средства управления хранилищами, базы данных, включая параллельные и кластерные реш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Построение центров обработки данных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 – СИТРОНИКС предлагает широкий набор сервисов по инсталляции, технической поддержке и аутсорсингу эксплуатации ИТ - инфраструктуры заказчика на базе стационарных Ц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Мобильные центры обработки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 – уникальное готовое инфраструктурное решение, позволяющее оперативно разворачивать ЦОДы в зависимости от задач бизнеса и роста потребностей в вычислительных ресурс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6280" y="6284880"/>
            <a:ext cx="4816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96a6c"/>
                </a:solidFill>
                <a:latin typeface="Arial"/>
                <a:ea typeface="Arial"/>
              </a:rPr>
              <a:t>* - Решение партнеров СИТРОНИК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Картинка 1 из 1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1640" y="2889360"/>
            <a:ext cx="2295360" cy="18000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6958080" y="4689360"/>
            <a:ext cx="1439640" cy="115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81F0A-EA28-468C-90A4-BF5BCBECB3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a6c"/>
                </a:solidFill>
                <a:latin typeface="Arial"/>
              </a:rPr>
              <a:t>«СИТРОНИКС Датериум™»: Мобильный Центр обработки данных (МЦОД) нового поколения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827360" y="2303640"/>
            <a:ext cx="4814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96a6c"/>
                </a:solidFill>
                <a:latin typeface="Arial"/>
              </a:rPr>
              <a:t>Мобильный ЦОД «СИТРОНИКС Датериум™» - 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</a:rPr>
              <a:t> готовая инфраструктура для установки ИТ и телеком оборудования, размещенная в стандартном 20 футовом транспортном контейнере. Разработан совместно со специалистами Корпорации «РОСАТОМ».</a:t>
            </a:r>
            <a:endParaRPr b="0" lang="en-US" sz="1200" spc="-1" strike="noStrike">
              <a:solidFill>
                <a:srgbClr val="696a6c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55720" cy="85572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197000" y="1224000"/>
            <a:ext cx="7623000" cy="944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524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Для обеспечения бесперебойной и надежной работы всех информационных систем, а также для оперативного наращивания вычислительных мощностей, СИТРОНИКС разработал и создал уникальное решение – Мобильный Центр обработки данных (ЦО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781280" y="3564000"/>
            <a:ext cx="4905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Размещение в любой географической точк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Различные климатические исполн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Мобильность и скорость разверты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96a6c"/>
                </a:solidFill>
                <a:latin typeface="Arial"/>
              </a:rPr>
              <a:t>Различные отраслевые конфигурац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96a6c"/>
                </a:solidFill>
                <a:latin typeface="Arial"/>
              </a:rPr>
              <a:t>Защита от внешних воздействий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96a6c"/>
                </a:solidFill>
                <a:latin typeface="Arial"/>
              </a:rPr>
              <a:t>Высокий уровень надежност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96a6c"/>
                </a:solidFill>
                <a:latin typeface="Arial"/>
              </a:rPr>
              <a:t>Вандалозащищенность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97"/>
          <p:cNvSpPr/>
          <p:nvPr/>
        </p:nvSpPr>
        <p:spPr>
          <a:xfrm>
            <a:off x="250920" y="3564000"/>
            <a:ext cx="1441440" cy="184464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Преимуществ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97"/>
          <p:cNvSpPr/>
          <p:nvPr/>
        </p:nvSpPr>
        <p:spPr>
          <a:xfrm>
            <a:off x="250920" y="2257560"/>
            <a:ext cx="1441440" cy="10810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Общая информац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01"/>
          <p:cNvSpPr/>
          <p:nvPr/>
        </p:nvSpPr>
        <p:spPr>
          <a:xfrm>
            <a:off x="206280" y="3429000"/>
            <a:ext cx="60548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5589720"/>
            <a:ext cx="6732720" cy="792000"/>
          </a:xfrm>
          <a:prstGeom prst="rect">
            <a:avLst/>
          </a:prstGeom>
          <a:solidFill>
            <a:srgbClr val="696a6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ctr">
            <a:normAutofit fontScale="76000"/>
          </a:bodyPr>
          <a:p>
            <a:pPr marL="272520" indent="-272520">
              <a:spcBef>
                <a:spcPts val="17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ИТРОНИКС предлагает решения, помогающие компаниям сокращать издержки и максимально эффективно использовать имеющие вычислительные ресур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6462720" y="2754360"/>
            <a:ext cx="2384280" cy="190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7CDEB-1CA0-42C8-809E-E9D009D1B6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31280" y="207720"/>
            <a:ext cx="84250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Системы хранения данных и центры обработки данных:</a:t>
            </a:r>
            <a:br>
              <a:rPr sz="2000"/>
            </a:b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Преимущества СИТРОНИКС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97000" y="1358640"/>
            <a:ext cx="855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49536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96a6c"/>
                </a:solidFill>
                <a:latin typeface="Arial"/>
              </a:rPr>
              <a:t>Более десяти реализованных проектов по строительству ЦОД, семь проектов в стадии реализации, в т.ч. для ведущих операторов связи и банков России и Украины (МТС, КОМСТАР-ОТС, УкрСоцБанк и другие);</a:t>
            </a:r>
            <a:endParaRPr b="0" lang="en-US" sz="16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49536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96a6c"/>
                </a:solidFill>
                <a:latin typeface="Arial"/>
              </a:rPr>
              <a:t>Уникальная по соотношению цена/мощность продуктовая линейка Мобильных ЦОД (МЦОД) – единственный на сегодня в мире МЦОД типа «все внутри» в форм-факторе транспортного контейнера </a:t>
            </a:r>
            <a:r>
              <a:rPr b="0" lang="en-US" sz="1600" spc="-1" strike="noStrike">
                <a:solidFill>
                  <a:srgbClr val="696a6c"/>
                </a:solidFill>
                <a:latin typeface="Arial"/>
              </a:rPr>
              <a:t>ISO </a:t>
            </a:r>
            <a:r>
              <a:rPr b="0" lang="ru-RU" sz="1600" spc="-1" strike="noStrike">
                <a:solidFill>
                  <a:srgbClr val="696a6c"/>
                </a:solidFill>
                <a:latin typeface="Arial"/>
              </a:rPr>
              <a:t>20 футов;</a:t>
            </a:r>
            <a:endParaRPr b="0" lang="en-US" sz="16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49536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96a6c"/>
                </a:solidFill>
                <a:latin typeface="Arial"/>
              </a:rPr>
              <a:t>Линейка партнерских решений МЦОД, включающая модели в форм-факторе </a:t>
            </a:r>
            <a:r>
              <a:rPr b="0" lang="en-US" sz="1600" spc="-1" strike="noStrike">
                <a:solidFill>
                  <a:srgbClr val="696a6c"/>
                </a:solidFill>
                <a:latin typeface="Arial"/>
              </a:rPr>
              <a:t>ISO </a:t>
            </a:r>
            <a:r>
              <a:rPr b="0" lang="ru-RU" sz="1600" spc="-1" strike="noStrike">
                <a:solidFill>
                  <a:srgbClr val="696a6c"/>
                </a:solidFill>
                <a:latin typeface="Arial"/>
              </a:rPr>
              <a:t>20 (с дополнительным инженерным модулем в отдельном контейнере)  и 40</a:t>
            </a:r>
            <a:r>
              <a:rPr b="0" lang="en-US" sz="1600" spc="-1" strike="noStrike">
                <a:solidFill>
                  <a:srgbClr val="696a6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96a6c"/>
                </a:solidFill>
                <a:latin typeface="Arial"/>
              </a:rPr>
              <a:t>футов («все внутри») мощностью от 50 до 200 кВт с количеством стоек от пяти до восьми;</a:t>
            </a:r>
            <a:endParaRPr b="0" lang="en-US" sz="16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49536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96a6c"/>
                </a:solidFill>
                <a:latin typeface="Arial"/>
              </a:rPr>
              <a:t>Более 80 квалифицированных специалистов (инженеры-проектировщики, инженеры-монтажники, руководители проектов) имеющих необходимые сертификации и богатый опыт успешного проектирования и монтажа ЦОД;</a:t>
            </a:r>
            <a:endParaRPr b="0" lang="en-US" sz="16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49536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96a6c"/>
                </a:solidFill>
                <a:latin typeface="Arial"/>
              </a:rPr>
              <a:t>Широкий набор сервисов по инсталляции, технической поддержке и аутсорсингу эксплуатации ИТ - инфраструктуры заказчика на базе стационарных ЦОД или МЦОД.</a:t>
            </a:r>
            <a:endParaRPr b="0" lang="en-US" sz="16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C0BAC-F434-480E-8049-B4AEF7E2CA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1280" y="279360"/>
            <a:ext cx="83790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Корпоративная телефония и контакт центры:</a:t>
            </a:r>
            <a:br>
              <a:rPr sz="2000"/>
            </a:b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Продукты и решения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1125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«СИТРОНИКС» выполняет комплексные проекты по внедрению систем телефонии (традиционная, компьютерная, IР-телефония), включая сложные программно-аппаратные комплексы: центры обработки вызовов (Call Center), центры взаимодействия с клиентами (Contact Center), интеграцию коммуникационных систем с информационными системами предприятия, системы конференц-связи (аудио и видео) и многое другое.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7000" y="2617920"/>
            <a:ext cx="616716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Услуги СИТРОНИКС в области контакт-центр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Корпоративная телефо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Call / Контакт центр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CTI-интеграция контакт-центров с CRM  и другими системами; заказчи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Системы самообслуживания (IV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Системы тотальной регистр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Системы универсальных коммуника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Системы видео-конференц-связ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Системы аудио-конференц-связ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Системы тарификации разгов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3581280" y="5907240"/>
            <a:ext cx="900360" cy="31248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1422360" y="5956200"/>
            <a:ext cx="809640" cy="21924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3"/>
          <a:stretch/>
        </p:blipFill>
        <p:spPr>
          <a:xfrm>
            <a:off x="4797360" y="5950080"/>
            <a:ext cx="900000" cy="1458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4"/>
          <a:stretch/>
        </p:blipFill>
        <p:spPr>
          <a:xfrm>
            <a:off x="2546280" y="5859360"/>
            <a:ext cx="720720" cy="38916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5"/>
          <a:stretch/>
        </p:blipFill>
        <p:spPr>
          <a:xfrm>
            <a:off x="385920" y="5969160"/>
            <a:ext cx="720720" cy="20628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Картинка 6 из 40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97720" y="2692440"/>
            <a:ext cx="2295360" cy="190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499DE-EDD2-43AA-8936-8B1A70BDA0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36320" y="168120"/>
            <a:ext cx="8366040" cy="7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Корпоративная телефония и контакт центры:</a:t>
            </a:r>
            <a:br>
              <a:rPr sz="2000"/>
            </a:b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Профессиональные услуги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97000" y="1314000"/>
            <a:ext cx="841536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38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96a6c"/>
                </a:solidFill>
                <a:latin typeface="Arial"/>
                <a:ea typeface="Arial"/>
              </a:rPr>
              <a:t>Консалтинг по построению и эксплуатации контакт-центров;</a:t>
            </a:r>
            <a:endParaRPr b="0" lang="en-US" sz="15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96a6c"/>
                </a:solidFill>
                <a:latin typeface="Arial"/>
                <a:ea typeface="Arial"/>
              </a:rPr>
              <a:t>Системная интеграция в области построения контакт-центров:</a:t>
            </a:r>
            <a:endParaRPr b="0" lang="en-US" sz="1500" spc="-1" strike="noStrike">
              <a:solidFill>
                <a:srgbClr val="696a6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38"/>
              </a:spcBef>
              <a:buClr>
                <a:srgbClr val="f0ca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96a6c"/>
                </a:solidFill>
                <a:latin typeface="Arial"/>
                <a:ea typeface="Arial"/>
              </a:rPr>
              <a:t>Реализация контакт-центров на базе оборудования различных вендоров;</a:t>
            </a:r>
            <a:endParaRPr b="0" lang="en-US" sz="1500" spc="-1" strike="noStrike">
              <a:solidFill>
                <a:srgbClr val="696a6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38"/>
              </a:spcBef>
              <a:buClr>
                <a:srgbClr val="f0ca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96a6c"/>
                </a:solidFill>
                <a:latin typeface="Arial"/>
                <a:ea typeface="Arial"/>
              </a:rPr>
              <a:t>Выбор технологических платформ;</a:t>
            </a:r>
            <a:endParaRPr b="0" lang="en-US" sz="1500" spc="-1" strike="noStrike">
              <a:solidFill>
                <a:srgbClr val="696a6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38"/>
              </a:spcBef>
              <a:buClr>
                <a:srgbClr val="f0ca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96a6c"/>
                </a:solidFill>
                <a:latin typeface="Arial"/>
                <a:ea typeface="Arial"/>
              </a:rPr>
              <a:t>Дизайн, проектирование, развертывание систем, интеграция в существующую инфраструктуру заказчика;</a:t>
            </a:r>
            <a:endParaRPr b="0" lang="en-US" sz="1500" spc="-1" strike="noStrike">
              <a:solidFill>
                <a:srgbClr val="696a6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38"/>
              </a:spcBef>
              <a:buClr>
                <a:srgbClr val="f0ca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96a6c"/>
                </a:solidFill>
                <a:latin typeface="Arial"/>
                <a:ea typeface="Arial"/>
              </a:rPr>
              <a:t>Технологический пуск;</a:t>
            </a:r>
            <a:endParaRPr b="0" lang="en-US" sz="1500" spc="-1" strike="noStrike">
              <a:solidFill>
                <a:srgbClr val="696a6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38"/>
              </a:spcBef>
              <a:buClr>
                <a:srgbClr val="f0ca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96a6c"/>
                </a:solidFill>
                <a:latin typeface="Arial"/>
                <a:ea typeface="Arial"/>
              </a:rPr>
              <a:t>Опытная эксплуатация, техническое сопровождение;</a:t>
            </a:r>
            <a:endParaRPr b="0" lang="en-US" sz="15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96a6c"/>
                </a:solidFill>
                <a:latin typeface="Arial"/>
                <a:ea typeface="Arial"/>
              </a:rPr>
              <a:t>CTI/</a:t>
            </a:r>
            <a:r>
              <a:rPr b="1" lang="en-US" sz="1500" spc="-1" strike="noStrike">
                <a:solidFill>
                  <a:srgbClr val="696a6c"/>
                </a:solidFill>
                <a:latin typeface="Arial"/>
                <a:ea typeface="Arial"/>
              </a:rPr>
              <a:t>CCI</a:t>
            </a:r>
            <a:r>
              <a:rPr b="1" lang="ru-RU" sz="1500" spc="-1" strike="noStrike">
                <a:solidFill>
                  <a:srgbClr val="696a6c"/>
                </a:solidFill>
                <a:latin typeface="Arial"/>
                <a:ea typeface="Arial"/>
              </a:rPr>
              <a:t>-интеграция с бизнес-приложениями заказчика:</a:t>
            </a:r>
            <a:endParaRPr b="0" lang="en-US" sz="1500" spc="-1" strike="noStrike">
              <a:solidFill>
                <a:srgbClr val="696a6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38"/>
              </a:spcBef>
              <a:buClr>
                <a:srgbClr val="f0ca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96a6c"/>
                </a:solidFill>
                <a:latin typeface="Arial"/>
                <a:ea typeface="Arial"/>
              </a:rPr>
              <a:t>Интеграция контакт-центра, пользовательских приложений и баз данных;</a:t>
            </a:r>
            <a:endParaRPr b="0" lang="en-US" sz="1500" spc="-1" strike="noStrike">
              <a:solidFill>
                <a:srgbClr val="696a6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38"/>
              </a:spcBef>
              <a:buClr>
                <a:srgbClr val="f0ca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96a6c"/>
                </a:solidFill>
                <a:latin typeface="Arial"/>
                <a:ea typeface="Arial"/>
              </a:rPr>
              <a:t>Готовые модули интеграции между оборудованием различных производителей и бизнес-приложениями;</a:t>
            </a:r>
            <a:endParaRPr b="0" lang="en-US" sz="15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96a6c"/>
                </a:solidFill>
                <a:latin typeface="Arial"/>
                <a:ea typeface="Arial"/>
              </a:rPr>
              <a:t>Сервисное сопровождение (SLA):</a:t>
            </a:r>
            <a:endParaRPr b="0" lang="en-US" sz="1500" spc="-1" strike="noStrike">
              <a:solidFill>
                <a:srgbClr val="696a6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38"/>
              </a:spcBef>
              <a:buClr>
                <a:srgbClr val="f0ca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96a6c"/>
                </a:solidFill>
                <a:latin typeface="Arial"/>
                <a:ea typeface="Arial"/>
              </a:rPr>
              <a:t>Различные пакеты расширенных сервисных услуг по сопровождению установленных контакт-центров.</a:t>
            </a:r>
            <a:endParaRPr b="0" lang="en-US" sz="15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A1B53-1C01-4944-8B73-C4E5C30210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a6c"/>
                </a:solidFill>
                <a:latin typeface="Arial"/>
              </a:rPr>
              <a:t>Построение системы управления отношениями с клиентами (</a:t>
            </a: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CRM)</a:t>
            </a:r>
            <a:r>
              <a:rPr b="1" lang="ru-RU" sz="2000" spc="-1" strike="noStrike">
                <a:solidFill>
                  <a:srgbClr val="696a6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675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</a:rPr>
              <a:t>Ключевой аспект успешного бизнеса — это умение привлекать и сохранять прибыльных клиентов</a:t>
            </a: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. </a:t>
            </a:r>
            <a:r>
              <a:rPr b="1" lang="ru-RU" sz="1400" spc="-1" strike="noStrike">
                <a:solidFill>
                  <a:srgbClr val="696a6c"/>
                </a:solidFill>
                <a:latin typeface="Arial"/>
              </a:rPr>
              <a:t>СИТРОНИКС предлагает услуги по проектированию и внедрению комплексных систем управления отношениями с клиентами на основе </a:t>
            </a: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Oracle Siebel CRM.</a:t>
            </a:r>
            <a:r>
              <a:rPr b="1" lang="ru-RU" sz="1400" spc="-1" strike="noStrike">
                <a:solidFill>
                  <a:srgbClr val="696a6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95200" y="2079720"/>
            <a:ext cx="63914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Преимущества решения </a:t>
            </a: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Oracle Siebel CRM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Унификация канала взаимодействия с клиентами - 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 расширение круга потенциальных клиентов и удержание существующих, выбор оптимальной стратегии взаимодействия — Интернет, операторский центр, традиционный канал или сеть партнеров. Такая схема дает полное согласованное представление о ваших клиент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Исчерпывающая информация по всем аспектам работы с клиентами.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 Повышение степени удовлетворенности и лояльности заказчиков, сбор и анализ информации по всему жизненному циклу взаимоотношений с ними — от маркетинга и продаж до послепродажного обслужи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Обеспечение индивидуального подхода к каждому заказчику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 - оценка потребности заказчика и его ценности для бизнеса для адаптации продуктов и услуг, а также использования наиболее удобного для клиента канала взаимодейств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Картинка 212 из 4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97720" y="2079720"/>
            <a:ext cx="2205000" cy="193356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Картинка 112 из 4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12000" y="3510000"/>
            <a:ext cx="1619280" cy="131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7D39D-ADA3-47B7-89C8-8C4967CB16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Управление основными  операциями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8640" cy="1035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Для управления многопрофильной и динамичной компанией, имеющей разветвленную холдинговую структуру, а также для принятия оперативно взвешенных управленческих решений необходима эффективная система управление ключевыми процессами – финансами, кадрами, бюджетного управления и контроля, проектами.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06280" y="2438280"/>
            <a:ext cx="639144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Управления финансами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 – интегрированное решение, дающее полную прозрачную картину состояния финансов и позволяющим контролировать операции компании: учет и управление поставщиками, клиентами, дебиторской и кредиторской задолженностью, управления активами и недвижимостью, управление денежными средств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</a:rPr>
              <a:t>Управление персоналом 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96a6c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HRM)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полнофункциональная система для организации работы кадровой службы современного предприятия, предоставляющая достоверную информацию и анализ эффективности использования трудовых ресур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Управление проектами </a:t>
            </a: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(PM)</a:t>
            </a: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– 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контроль финансовых, производственных, временных и людских ресурсов по всем проектам, осуществляемым компан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</a:rPr>
              <a:t>Управление активами - 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позволяет оптимизировать использование активов и производственных мощностей, снижают  себестоимость и в конечном итоге повышают уровень доходности инвестиций (ROI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686640" y="2484360"/>
            <a:ext cx="2211120" cy="219888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Картинка 2 из 369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3875040"/>
            <a:ext cx="1528560" cy="150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87F4-BBC4-420F-A909-9D68E0DDF5D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Стратегическое планирование и управление эффективностью компании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1216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</a:rPr>
              <a:t>В условиях текущей экономической реальности компаниям необходимы новые инструменты для оценки качества и эффективности своей деятельности. Возможности решений по стратегическому управлению охватывают весь спектр управления эффективностью, включая интегрированное бизнес-планирование, мониторинг эффективности (</a:t>
            </a: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KPI)</a:t>
            </a:r>
            <a:r>
              <a:rPr b="1" lang="ru-RU" sz="1400" spc="-1" strike="noStrike">
                <a:solidFill>
                  <a:srgbClr val="696a6c"/>
                </a:solidFill>
                <a:latin typeface="Arial"/>
              </a:rPr>
              <a:t>, бизнес-консолидация, управление отношениями с акционерами.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06280" y="6284880"/>
            <a:ext cx="4816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96a6c"/>
                </a:solidFill>
                <a:latin typeface="Arial"/>
                <a:ea typeface="Arial"/>
              </a:rPr>
              <a:t>* - Решение партнеров СИТРОНИК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97000" y="2611440"/>
            <a:ext cx="643572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1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Планирование и бюджетирование</a:t>
            </a:r>
            <a:r>
              <a:rPr b="0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 - многоуровневое планирование, разработка и контроль исполнения бюджетов, прогнозирования, сценарного моделирования и многомерного анализа, финансовых, натуральных и статистических показател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Сбалансированные показатели деятельности (BSC)</a:t>
            </a:r>
            <a:r>
              <a:rPr b="0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 -  система мониторинга и управления  на всех организационных уровнях, предназначенная для отображения стратегии организации в сбалансированный набор показателей деятельност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Управление прибыльностью и бизнес-аналитика</a:t>
            </a:r>
            <a:r>
              <a:rPr b="0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 -  моделирование деятельности компании в разрезе доходов, выручки, издержек, затрат, видов деятельности и прибыли на широком корпоративном уровн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Корпоративное управление</a:t>
            </a:r>
            <a:r>
              <a:rPr b="0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 – комплекс решения для выполнения требований регуляторов и законодательства (SOX), ведения системы внутренних контролей, конфиденциальности информаци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6732720" y="2709720"/>
            <a:ext cx="2158920" cy="15210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Картинка 100 из 52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8520" y="3878280"/>
            <a:ext cx="1384200" cy="138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89D00-2EB7-4B3C-89EA-41EF086068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4"/>
          <p:cNvSpPr/>
          <p:nvPr/>
        </p:nvSpPr>
        <p:spPr>
          <a:xfrm>
            <a:off x="468360" y="64533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E418-3B1F-4FEE-B405-69D4F1210F7E}" type="slidenum">
              <a:rPr b="0" lang="ru-RU" sz="1000" spc="-1" strike="noStrike">
                <a:solidFill>
                  <a:srgbClr val="696a6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250920" y="2440080"/>
            <a:ext cx="2808360" cy="11984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164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АФК «СИСТЕМА»: Крупнейшая диверсифицированная корпорация в России и СНГ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pic>
        <p:nvPicPr>
          <p:cNvPr id="219" name="Picture 4" descr="Акционерная финансовая корпорация «Система»"/>
          <p:cNvPicPr/>
          <p:nvPr/>
        </p:nvPicPr>
        <p:blipFill>
          <a:blip r:embed="rId1"/>
          <a:srcRect l="0" t="16910" r="0" b="22400"/>
          <a:stretch/>
        </p:blipFill>
        <p:spPr>
          <a:xfrm>
            <a:off x="3708360" y="1065240"/>
            <a:ext cx="1643040" cy="6159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250920" y="1969920"/>
            <a:ext cx="2808360" cy="406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БЕ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«Телекоммуникационные активы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3152880" y="1969920"/>
            <a:ext cx="2808360" cy="406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БЕ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«Потребительские активы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6156360" y="1969920"/>
            <a:ext cx="2808360" cy="406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БЕ «Высокие технологии и промышленность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МТС"/>
          <p:cNvPicPr/>
          <p:nvPr/>
        </p:nvPicPr>
        <p:blipFill>
          <a:blip r:embed="rId2"/>
          <a:stretch/>
        </p:blipFill>
        <p:spPr>
          <a:xfrm>
            <a:off x="341280" y="2743200"/>
            <a:ext cx="746280" cy="345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КОМСТАР"/>
          <p:cNvPicPr/>
          <p:nvPr/>
        </p:nvPicPr>
        <p:blipFill>
          <a:blip r:embed="rId3"/>
          <a:stretch/>
        </p:blipFill>
        <p:spPr>
          <a:xfrm>
            <a:off x="1231920" y="2743200"/>
            <a:ext cx="768240" cy="353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МГТС"/>
          <p:cNvPicPr/>
          <p:nvPr/>
        </p:nvPicPr>
        <p:blipFill>
          <a:blip r:embed="rId4"/>
          <a:stretch/>
        </p:blipFill>
        <p:spPr>
          <a:xfrm>
            <a:off x="2095560" y="2743200"/>
            <a:ext cx="792000" cy="365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МТТ"/>
          <p:cNvPicPr/>
          <p:nvPr/>
        </p:nvPicPr>
        <p:blipFill>
          <a:blip r:embed="rId5"/>
          <a:stretch/>
        </p:blipFill>
        <p:spPr>
          <a:xfrm>
            <a:off x="343080" y="3184560"/>
            <a:ext cx="744480" cy="34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Sky Link"/>
          <p:cNvPicPr/>
          <p:nvPr/>
        </p:nvPicPr>
        <p:blipFill>
          <a:blip r:embed="rId6"/>
          <a:stretch/>
        </p:blipFill>
        <p:spPr>
          <a:xfrm>
            <a:off x="1303200" y="3168720"/>
            <a:ext cx="576360" cy="379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" descr="Shyam Telelink"/>
          <p:cNvPicPr/>
          <p:nvPr/>
        </p:nvPicPr>
        <p:blipFill>
          <a:blip r:embed="rId7"/>
          <a:stretch/>
        </p:blipFill>
        <p:spPr>
          <a:xfrm>
            <a:off x="2168640" y="3240000"/>
            <a:ext cx="671400" cy="309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img"/>
          <p:cNvPicPr/>
          <p:nvPr/>
        </p:nvPicPr>
        <p:blipFill>
          <a:blip r:embed="rId8"/>
          <a:stretch/>
        </p:blipFill>
        <p:spPr>
          <a:xfrm>
            <a:off x="351000" y="3871800"/>
            <a:ext cx="1150920" cy="432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5" descr="img"/>
          <p:cNvPicPr/>
          <p:nvPr/>
        </p:nvPicPr>
        <p:blipFill>
          <a:blip r:embed="rId9"/>
          <a:stretch/>
        </p:blipFill>
        <p:spPr>
          <a:xfrm>
            <a:off x="3348000" y="2655720"/>
            <a:ext cx="1008000" cy="29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6" descr="img"/>
          <p:cNvPicPr/>
          <p:nvPr/>
        </p:nvPicPr>
        <p:blipFill>
          <a:blip r:embed="rId10"/>
          <a:stretch/>
        </p:blipFill>
        <p:spPr>
          <a:xfrm>
            <a:off x="3348000" y="3944880"/>
            <a:ext cx="1006560" cy="335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7" descr="img"/>
          <p:cNvPicPr/>
          <p:nvPr/>
        </p:nvPicPr>
        <p:blipFill>
          <a:blip r:embed="rId11"/>
          <a:stretch/>
        </p:blipFill>
        <p:spPr>
          <a:xfrm>
            <a:off x="4788000" y="3268800"/>
            <a:ext cx="1008000" cy="361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8" descr="img"/>
          <p:cNvPicPr/>
          <p:nvPr/>
        </p:nvPicPr>
        <p:blipFill>
          <a:blip r:embed="rId12"/>
          <a:stretch/>
        </p:blipFill>
        <p:spPr>
          <a:xfrm>
            <a:off x="4857840" y="2558880"/>
            <a:ext cx="866520" cy="439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9" descr="ТС-Ритейл"/>
          <p:cNvPicPr/>
          <p:nvPr/>
        </p:nvPicPr>
        <p:blipFill>
          <a:blip r:embed="rId13"/>
          <a:stretch/>
        </p:blipFill>
        <p:spPr>
          <a:xfrm>
            <a:off x="3398760" y="3268800"/>
            <a:ext cx="866880" cy="349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0" descr="medsi"/>
          <p:cNvPicPr/>
          <p:nvPr/>
        </p:nvPicPr>
        <p:blipFill>
          <a:blip r:embed="rId14"/>
          <a:stretch/>
        </p:blipFill>
        <p:spPr>
          <a:xfrm>
            <a:off x="4859280" y="3944880"/>
            <a:ext cx="936720" cy="358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1" descr="img"/>
          <p:cNvPicPr/>
          <p:nvPr/>
        </p:nvPicPr>
        <p:blipFill>
          <a:blip r:embed="rId15"/>
          <a:stretch/>
        </p:blipFill>
        <p:spPr>
          <a:xfrm>
            <a:off x="6181560" y="2649600"/>
            <a:ext cx="1224000" cy="269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2" descr="img"/>
          <p:cNvPicPr/>
          <p:nvPr/>
        </p:nvPicPr>
        <p:blipFill>
          <a:blip r:embed="rId16"/>
          <a:stretch/>
        </p:blipFill>
        <p:spPr>
          <a:xfrm>
            <a:off x="8031240" y="2590920"/>
            <a:ext cx="411120" cy="407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3" descr="img"/>
          <p:cNvPicPr/>
          <p:nvPr/>
        </p:nvPicPr>
        <p:blipFill>
          <a:blip r:embed="rId17"/>
          <a:srcRect l="0" t="16842" r="0" b="24444"/>
          <a:stretch/>
        </p:blipFill>
        <p:spPr>
          <a:xfrm>
            <a:off x="6237360" y="3268800"/>
            <a:ext cx="1123920" cy="3729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4"/>
          <p:cNvSpPr/>
          <p:nvPr/>
        </p:nvSpPr>
        <p:spPr>
          <a:xfrm>
            <a:off x="3648240" y="1079640"/>
            <a:ext cx="1800000" cy="6015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AutoShape 25"/>
          <p:cNvCxnSpPr>
            <a:stCxn id="239" idx="2"/>
            <a:endCxn id="220" idx="0"/>
          </p:cNvCxnSpPr>
          <p:nvPr/>
        </p:nvCxnSpPr>
        <p:spPr>
          <a:xfrm rot="5400000">
            <a:off x="2956680" y="379080"/>
            <a:ext cx="289440" cy="2893320"/>
          </a:xfrm>
          <a:prstGeom prst="bentConnector3">
            <a:avLst>
              <a:gd name="adj1" fmla="val 49439"/>
            </a:avLst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41" name="AutoShape 26"/>
          <p:cNvCxnSpPr>
            <a:stCxn id="239" idx="2"/>
            <a:endCxn id="221" idx="0"/>
          </p:cNvCxnSpPr>
          <p:nvPr/>
        </p:nvCxnSpPr>
        <p:spPr>
          <a:xfrm flipH="1" rot="16200000">
            <a:off x="4408560" y="1820520"/>
            <a:ext cx="289440" cy="10080"/>
          </a:xfrm>
          <a:prstGeom prst="bentConnector3">
            <a:avLst>
              <a:gd name="adj1" fmla="val 49439"/>
            </a:avLst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42" name="AutoShape 27"/>
          <p:cNvCxnSpPr>
            <a:stCxn id="239" idx="2"/>
            <a:endCxn id="222" idx="0"/>
          </p:cNvCxnSpPr>
          <p:nvPr/>
        </p:nvCxnSpPr>
        <p:spPr>
          <a:xfrm flipH="1" rot="16200000">
            <a:off x="5910480" y="318600"/>
            <a:ext cx="289440" cy="3013920"/>
          </a:xfrm>
          <a:prstGeom prst="bentConnector3">
            <a:avLst>
              <a:gd name="adj1" fmla="val 49439"/>
            </a:avLst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43" name="Rectangle 28"/>
          <p:cNvSpPr/>
          <p:nvPr/>
        </p:nvSpPr>
        <p:spPr>
          <a:xfrm>
            <a:off x="250920" y="2441520"/>
            <a:ext cx="2808360" cy="1429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Телекоммуник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29"/>
          <p:cNvGrpSpPr/>
          <p:nvPr/>
        </p:nvGrpSpPr>
        <p:grpSpPr>
          <a:xfrm>
            <a:off x="3203640" y="2440080"/>
            <a:ext cx="1296720" cy="558720"/>
            <a:chOff x="3203640" y="2440080"/>
            <a:chExt cx="1296720" cy="558720"/>
          </a:xfrm>
        </p:grpSpPr>
        <p:sp>
          <p:nvSpPr>
            <p:cNvPr id="245" name="Rectangle 30"/>
            <p:cNvSpPr/>
            <p:nvPr/>
          </p:nvSpPr>
          <p:spPr>
            <a:xfrm>
              <a:off x="3203640" y="2440080"/>
              <a:ext cx="1296720" cy="11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троительств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31"/>
            <p:cNvSpPr/>
            <p:nvPr/>
          </p:nvSpPr>
          <p:spPr>
            <a:xfrm>
              <a:off x="3203640" y="2440080"/>
              <a:ext cx="1296720" cy="5587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32"/>
          <p:cNvSpPr/>
          <p:nvPr/>
        </p:nvSpPr>
        <p:spPr>
          <a:xfrm>
            <a:off x="1763640" y="3728880"/>
            <a:ext cx="1297080" cy="648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1763640" y="3728880"/>
            <a:ext cx="1297080" cy="1288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Кинопроизводств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4" descr="RWS logo"/>
          <p:cNvPicPr/>
          <p:nvPr/>
        </p:nvPicPr>
        <p:blipFill>
          <a:blip r:embed="rId18"/>
          <a:stretch/>
        </p:blipFill>
        <p:spPr>
          <a:xfrm>
            <a:off x="2052720" y="3944880"/>
            <a:ext cx="718920" cy="370080"/>
          </a:xfrm>
          <a:prstGeom prst="rect">
            <a:avLst/>
          </a:prstGeom>
          <a:ln w="0">
            <a:noFill/>
          </a:ln>
        </p:spPr>
      </p:pic>
      <p:grpSp>
        <p:nvGrpSpPr>
          <p:cNvPr id="250" name="Group 35"/>
          <p:cNvGrpSpPr/>
          <p:nvPr/>
        </p:nvGrpSpPr>
        <p:grpSpPr>
          <a:xfrm>
            <a:off x="4660920" y="2440080"/>
            <a:ext cx="1296720" cy="558720"/>
            <a:chOff x="4660920" y="2440080"/>
            <a:chExt cx="1296720" cy="558720"/>
          </a:xfrm>
        </p:grpSpPr>
        <p:sp>
          <p:nvSpPr>
            <p:cNvPr id="251" name="Rectangle 36"/>
            <p:cNvSpPr/>
            <p:nvPr/>
          </p:nvSpPr>
          <p:spPr>
            <a:xfrm>
              <a:off x="4660920" y="2440080"/>
              <a:ext cx="1296720" cy="11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рговл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7"/>
            <p:cNvSpPr/>
            <p:nvPr/>
          </p:nvSpPr>
          <p:spPr>
            <a:xfrm>
              <a:off x="4660920" y="2440080"/>
              <a:ext cx="1296720" cy="5587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38"/>
          <p:cNvGrpSpPr/>
          <p:nvPr/>
        </p:nvGrpSpPr>
        <p:grpSpPr>
          <a:xfrm>
            <a:off x="3176640" y="3071880"/>
            <a:ext cx="1296720" cy="566640"/>
            <a:chOff x="3176640" y="3071880"/>
            <a:chExt cx="1296720" cy="566640"/>
          </a:xfrm>
        </p:grpSpPr>
        <p:sp>
          <p:nvSpPr>
            <p:cNvPr id="254" name="Rectangle 39"/>
            <p:cNvSpPr/>
            <p:nvPr/>
          </p:nvSpPr>
          <p:spPr>
            <a:xfrm>
              <a:off x="3176640" y="3071880"/>
              <a:ext cx="1296720" cy="112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озниц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0"/>
            <p:cNvSpPr/>
            <p:nvPr/>
          </p:nvSpPr>
          <p:spPr>
            <a:xfrm>
              <a:off x="3176640" y="3071880"/>
              <a:ext cx="1296720" cy="56664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41"/>
          <p:cNvGrpSpPr/>
          <p:nvPr/>
        </p:nvGrpSpPr>
        <p:grpSpPr>
          <a:xfrm>
            <a:off x="4664160" y="3089160"/>
            <a:ext cx="1296720" cy="549360"/>
            <a:chOff x="4664160" y="3089160"/>
            <a:chExt cx="1296720" cy="549360"/>
          </a:xfrm>
        </p:grpSpPr>
        <p:sp>
          <p:nvSpPr>
            <p:cNvPr id="257" name="Rectangle 42"/>
            <p:cNvSpPr/>
            <p:nvPr/>
          </p:nvSpPr>
          <p:spPr>
            <a:xfrm>
              <a:off x="4664160" y="3089160"/>
              <a:ext cx="1296720" cy="109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уриз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43"/>
            <p:cNvSpPr/>
            <p:nvPr/>
          </p:nvSpPr>
          <p:spPr>
            <a:xfrm>
              <a:off x="4664160" y="3089160"/>
              <a:ext cx="1296720" cy="54936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44"/>
          <p:cNvGrpSpPr/>
          <p:nvPr/>
        </p:nvGrpSpPr>
        <p:grpSpPr>
          <a:xfrm>
            <a:off x="3211560" y="3733920"/>
            <a:ext cx="1296720" cy="647640"/>
            <a:chOff x="3211560" y="3733920"/>
            <a:chExt cx="1296720" cy="647640"/>
          </a:xfrm>
        </p:grpSpPr>
        <p:sp>
          <p:nvSpPr>
            <p:cNvPr id="260" name="Rectangle 45"/>
            <p:cNvSpPr/>
            <p:nvPr/>
          </p:nvSpPr>
          <p:spPr>
            <a:xfrm>
              <a:off x="3211560" y="3733920"/>
              <a:ext cx="1296720" cy="128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инанс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46"/>
            <p:cNvSpPr/>
            <p:nvPr/>
          </p:nvSpPr>
          <p:spPr>
            <a:xfrm>
              <a:off x="3211560" y="3733920"/>
              <a:ext cx="1296720" cy="64764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47"/>
          <p:cNvGrpSpPr/>
          <p:nvPr/>
        </p:nvGrpSpPr>
        <p:grpSpPr>
          <a:xfrm>
            <a:off x="250920" y="3728880"/>
            <a:ext cx="1296720" cy="648000"/>
            <a:chOff x="250920" y="3728880"/>
            <a:chExt cx="1296720" cy="648000"/>
          </a:xfrm>
        </p:grpSpPr>
        <p:sp>
          <p:nvSpPr>
            <p:cNvPr id="263" name="Rectangle 48"/>
            <p:cNvSpPr/>
            <p:nvPr/>
          </p:nvSpPr>
          <p:spPr>
            <a:xfrm>
              <a:off x="250920" y="3728880"/>
              <a:ext cx="1296720" cy="128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асс-меди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49"/>
            <p:cNvSpPr/>
            <p:nvPr/>
          </p:nvSpPr>
          <p:spPr>
            <a:xfrm>
              <a:off x="250920" y="3728880"/>
              <a:ext cx="1296720" cy="64800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50"/>
          <p:cNvGrpSpPr/>
          <p:nvPr/>
        </p:nvGrpSpPr>
        <p:grpSpPr>
          <a:xfrm>
            <a:off x="4664160" y="3728880"/>
            <a:ext cx="1296720" cy="648000"/>
            <a:chOff x="4664160" y="3728880"/>
            <a:chExt cx="1296720" cy="648000"/>
          </a:xfrm>
        </p:grpSpPr>
        <p:sp>
          <p:nvSpPr>
            <p:cNvPr id="266" name="Rectangle 51"/>
            <p:cNvSpPr/>
            <p:nvPr/>
          </p:nvSpPr>
          <p:spPr>
            <a:xfrm>
              <a:off x="4664160" y="3728880"/>
              <a:ext cx="1296720" cy="128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едицин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52"/>
            <p:cNvSpPr/>
            <p:nvPr/>
          </p:nvSpPr>
          <p:spPr>
            <a:xfrm>
              <a:off x="4664160" y="3728880"/>
              <a:ext cx="1296720" cy="64800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53"/>
          <p:cNvGrpSpPr/>
          <p:nvPr/>
        </p:nvGrpSpPr>
        <p:grpSpPr>
          <a:xfrm>
            <a:off x="6156360" y="2438280"/>
            <a:ext cx="1296720" cy="560520"/>
            <a:chOff x="6156360" y="2438280"/>
            <a:chExt cx="1296720" cy="560520"/>
          </a:xfrm>
        </p:grpSpPr>
        <p:sp>
          <p:nvSpPr>
            <p:cNvPr id="269" name="Rectangle 54"/>
            <p:cNvSpPr/>
            <p:nvPr/>
          </p:nvSpPr>
          <p:spPr>
            <a:xfrm>
              <a:off x="6156360" y="2438280"/>
              <a:ext cx="1296720" cy="111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ысокие технолог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55"/>
            <p:cNvSpPr/>
            <p:nvPr/>
          </p:nvSpPr>
          <p:spPr>
            <a:xfrm>
              <a:off x="6156360" y="2438280"/>
              <a:ext cx="1296720" cy="5605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56"/>
          <p:cNvGrpSpPr/>
          <p:nvPr/>
        </p:nvGrpSpPr>
        <p:grpSpPr>
          <a:xfrm>
            <a:off x="6146640" y="3071880"/>
            <a:ext cx="1296720" cy="612720"/>
            <a:chOff x="6146640" y="3071880"/>
            <a:chExt cx="1296720" cy="612720"/>
          </a:xfrm>
        </p:grpSpPr>
        <p:sp>
          <p:nvSpPr>
            <p:cNvPr id="272" name="Rectangle 57"/>
            <p:cNvSpPr/>
            <p:nvPr/>
          </p:nvSpPr>
          <p:spPr>
            <a:xfrm>
              <a:off x="6146640" y="3071880"/>
              <a:ext cx="1296720" cy="121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иотехнолог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58"/>
            <p:cNvSpPr/>
            <p:nvPr/>
          </p:nvSpPr>
          <p:spPr>
            <a:xfrm>
              <a:off x="6146640" y="3071880"/>
              <a:ext cx="1296720" cy="6127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59"/>
          <p:cNvGrpSpPr/>
          <p:nvPr/>
        </p:nvGrpSpPr>
        <p:grpSpPr>
          <a:xfrm>
            <a:off x="7664400" y="2440080"/>
            <a:ext cx="1296720" cy="558720"/>
            <a:chOff x="7664400" y="2440080"/>
            <a:chExt cx="1296720" cy="558720"/>
          </a:xfrm>
        </p:grpSpPr>
        <p:sp>
          <p:nvSpPr>
            <p:cNvPr id="275" name="Rectangle 60"/>
            <p:cNvSpPr/>
            <p:nvPr/>
          </p:nvSpPr>
          <p:spPr>
            <a:xfrm>
              <a:off x="7664400" y="2440080"/>
              <a:ext cx="1296720" cy="11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адиотех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/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лектроник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61"/>
            <p:cNvSpPr/>
            <p:nvPr/>
          </p:nvSpPr>
          <p:spPr>
            <a:xfrm>
              <a:off x="7664400" y="2440080"/>
              <a:ext cx="1296720" cy="5587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62"/>
          <p:cNvSpPr/>
          <p:nvPr/>
        </p:nvSpPr>
        <p:spPr>
          <a:xfrm>
            <a:off x="6146640" y="3749760"/>
            <a:ext cx="2808360" cy="4442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БЕ «Топливно-энергетический комплекс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3"/>
          <p:cNvSpPr/>
          <p:nvPr/>
        </p:nvSpPr>
        <p:spPr>
          <a:xfrm>
            <a:off x="0" y="5589720"/>
            <a:ext cx="6732720" cy="936360"/>
          </a:xfrm>
          <a:prstGeom prst="rect">
            <a:avLst/>
          </a:prstGeom>
          <a:solidFill>
            <a:srgbClr val="696a6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ctr">
            <a:noAutofit/>
          </a:bodyPr>
          <a:p>
            <a:pPr marL="358920" indent="-358920">
              <a:spcBef>
                <a:spcPts val="17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АФК «Система» — крупнейшая в России и СНГ публичная диверсифицированная  корпорация, владеющая и управляющая пакетами акций компаний, работающих в быстрорастущих сервисных секторах экономи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64"/>
          <p:cNvGrpSpPr/>
          <p:nvPr/>
        </p:nvGrpSpPr>
        <p:grpSpPr>
          <a:xfrm>
            <a:off x="6146640" y="4284720"/>
            <a:ext cx="1260720" cy="539640"/>
            <a:chOff x="6146640" y="4284720"/>
            <a:chExt cx="1260720" cy="539640"/>
          </a:xfrm>
        </p:grpSpPr>
        <p:sp>
          <p:nvSpPr>
            <p:cNvPr id="280" name="Rectangle 65"/>
            <p:cNvSpPr/>
            <p:nvPr/>
          </p:nvSpPr>
          <p:spPr>
            <a:xfrm>
              <a:off x="6146640" y="4284720"/>
              <a:ext cx="1260720" cy="10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быч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66"/>
            <p:cNvSpPr/>
            <p:nvPr/>
          </p:nvSpPr>
          <p:spPr>
            <a:xfrm>
              <a:off x="6146640" y="4284720"/>
              <a:ext cx="1260720" cy="53964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2" name="Picture 67" descr="2242_34"/>
          <p:cNvPicPr/>
          <p:nvPr/>
        </p:nvPicPr>
        <p:blipFill>
          <a:blip r:embed="rId19"/>
          <a:stretch/>
        </p:blipFill>
        <p:spPr>
          <a:xfrm>
            <a:off x="6192720" y="4508640"/>
            <a:ext cx="1094040" cy="120600"/>
          </a:xfrm>
          <a:prstGeom prst="rect">
            <a:avLst/>
          </a:prstGeom>
          <a:ln w="0">
            <a:noFill/>
          </a:ln>
        </p:spPr>
      </p:pic>
      <p:grpSp>
        <p:nvGrpSpPr>
          <p:cNvPr id="283" name="Group 68"/>
          <p:cNvGrpSpPr/>
          <p:nvPr/>
        </p:nvGrpSpPr>
        <p:grpSpPr>
          <a:xfrm>
            <a:off x="7632720" y="4284720"/>
            <a:ext cx="1304640" cy="539640"/>
            <a:chOff x="7632720" y="4284720"/>
            <a:chExt cx="1304640" cy="539640"/>
          </a:xfrm>
        </p:grpSpPr>
        <p:sp>
          <p:nvSpPr>
            <p:cNvPr id="284" name="Rectangle 69"/>
            <p:cNvSpPr/>
            <p:nvPr/>
          </p:nvSpPr>
          <p:spPr>
            <a:xfrm>
              <a:off x="7632720" y="4284720"/>
              <a:ext cx="1304640" cy="10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фтепереработк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70"/>
            <p:cNvSpPr/>
            <p:nvPr/>
          </p:nvSpPr>
          <p:spPr>
            <a:xfrm>
              <a:off x="7632720" y="4284720"/>
              <a:ext cx="1304640" cy="53964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Picture 71" descr="2242_96"/>
          <p:cNvPicPr/>
          <p:nvPr/>
        </p:nvPicPr>
        <p:blipFill>
          <a:blip r:embed="rId20"/>
          <a:stretch/>
        </p:blipFill>
        <p:spPr>
          <a:xfrm>
            <a:off x="7721640" y="4419720"/>
            <a:ext cx="1139760" cy="31428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72"/>
          <p:cNvGrpSpPr/>
          <p:nvPr/>
        </p:nvGrpSpPr>
        <p:grpSpPr>
          <a:xfrm>
            <a:off x="6146640" y="4869000"/>
            <a:ext cx="1260720" cy="630000"/>
            <a:chOff x="6146640" y="4869000"/>
            <a:chExt cx="1260720" cy="630000"/>
          </a:xfrm>
        </p:grpSpPr>
        <p:sp>
          <p:nvSpPr>
            <p:cNvPr id="288" name="Rectangle 73"/>
            <p:cNvSpPr/>
            <p:nvPr/>
          </p:nvSpPr>
          <p:spPr>
            <a:xfrm>
              <a:off x="6146640" y="4869000"/>
              <a:ext cx="1260720" cy="125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озниц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74"/>
            <p:cNvSpPr/>
            <p:nvPr/>
          </p:nvSpPr>
          <p:spPr>
            <a:xfrm>
              <a:off x="6146640" y="4869000"/>
              <a:ext cx="1260720" cy="63000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Picture 75" descr="2242_18"/>
          <p:cNvPicPr/>
          <p:nvPr/>
        </p:nvPicPr>
        <p:blipFill>
          <a:blip r:embed="rId21"/>
          <a:srcRect l="5895" t="5895" r="8370" b="7569"/>
          <a:stretch/>
        </p:blipFill>
        <p:spPr>
          <a:xfrm>
            <a:off x="6551640" y="5049720"/>
            <a:ext cx="423720" cy="428760"/>
          </a:xfrm>
          <a:prstGeom prst="rect">
            <a:avLst/>
          </a:prstGeom>
          <a:ln w="0">
            <a:noFill/>
          </a:ln>
        </p:spPr>
      </p:pic>
      <p:grpSp>
        <p:nvGrpSpPr>
          <p:cNvPr id="291" name="Group 76"/>
          <p:cNvGrpSpPr/>
          <p:nvPr/>
        </p:nvGrpSpPr>
        <p:grpSpPr>
          <a:xfrm>
            <a:off x="7632720" y="4869000"/>
            <a:ext cx="1304640" cy="630000"/>
            <a:chOff x="7632720" y="4869000"/>
            <a:chExt cx="1304640" cy="630000"/>
          </a:xfrm>
        </p:grpSpPr>
        <p:sp>
          <p:nvSpPr>
            <p:cNvPr id="292" name="Rectangle 77"/>
            <p:cNvSpPr/>
            <p:nvPr/>
          </p:nvSpPr>
          <p:spPr>
            <a:xfrm>
              <a:off x="7632720" y="4869000"/>
              <a:ext cx="1304640" cy="125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нергетик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78"/>
            <p:cNvSpPr/>
            <p:nvPr/>
          </p:nvSpPr>
          <p:spPr>
            <a:xfrm>
              <a:off x="7632720" y="4869000"/>
              <a:ext cx="1304640" cy="63000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Picture 79" descr="2242_70"/>
          <p:cNvPicPr/>
          <p:nvPr/>
        </p:nvPicPr>
        <p:blipFill>
          <a:blip r:embed="rId22"/>
          <a:stretch/>
        </p:blipFill>
        <p:spPr>
          <a:xfrm>
            <a:off x="7669080" y="5126040"/>
            <a:ext cx="1185840" cy="22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3ACCD-2D39-4BA6-8B8C-E86A94B698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68360" y="279000"/>
            <a:ext cx="837864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a6c"/>
                </a:solidFill>
                <a:latin typeface="Arial"/>
              </a:rPr>
              <a:t>Услуги СИТРОНИКС в области внедрения бизнес-приложений и технологий </a:t>
            </a: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Oracle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95200" y="2393640"/>
            <a:ext cx="850752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</a:rPr>
              <a:t>Широкая линейка продуктов</a:t>
            </a: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Oracle E-Business Suite, Oracle Siebel CRM, Oracle Hyperion, Oracle Portal, Oracle BI 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и другие решения.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</a:rPr>
              <a:t>Сильная команда 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696a6c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профессиональная команда, использующая широкий набор продуктов корпорации Oracle и собственные экспертные знания для создания, внедрения и сопровождения информационных систем управления. 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</a:rPr>
              <a:t>Отраслевая экспертиза 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–</a:t>
            </a:r>
            <a:r>
              <a:rPr b="1" lang="ru-RU" sz="1400" spc="-1" strike="noStrike">
                <a:solidFill>
                  <a:srgbClr val="696a6c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реализация крупномасштабных проектов внедрения решений 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Oracle 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в телекоммуникационном секторе России и СНГ: </a:t>
            </a:r>
            <a:r>
              <a:rPr b="1" i="1" lang="ru-RU" sz="1400" spc="-1" strike="noStrike">
                <a:solidFill>
                  <a:srgbClr val="696a6c"/>
                </a:solidFill>
                <a:latin typeface="Arial"/>
              </a:rPr>
              <a:t>МТС, Комстар, СТРИМ, Система Масс-Медиа, </a:t>
            </a:r>
            <a:r>
              <a:rPr b="1" i="1" lang="en-US" sz="1400" spc="-1" strike="noStrike">
                <a:solidFill>
                  <a:srgbClr val="696a6c"/>
                </a:solidFill>
                <a:latin typeface="Arial"/>
              </a:rPr>
              <a:t>SkyLink</a:t>
            </a:r>
            <a:r>
              <a:rPr b="1" i="1" lang="ru-RU" sz="1400" spc="-1" strike="noStrike">
                <a:solidFill>
                  <a:srgbClr val="696a6c"/>
                </a:solidFill>
                <a:latin typeface="Arial"/>
              </a:rPr>
              <a:t>, Еврохим, МГТС, Детский Мир, РОСНО</a:t>
            </a: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и ряд других.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</a:rPr>
              <a:t>Комплексные услуги 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- Формирование концепции информатизации предприятия; постановка и внедрение систем; обучение пользователей систем; адаптация, разработка, поддержка решений; контроль качества внедрения; аудит проектов внедрения.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</a:rPr>
              <a:t>Надежное партнерство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Oracle 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является одним из ключевых стратегических партнеров СИТРОНИКС и активно развивает практику этих решений. 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50920" y="1268280"/>
            <a:ext cx="8596080" cy="990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Команда СИТРОНИКС обладает успешным опытом по созданию и внедрению корпоративных систем управления на основе продуктов корпорации Oracle. Специалисты СИТРОНИКС тесно взаимодействуют с российскими и зарубежными компаниями из различных секторов экономики, помогая им совершенствовать управление на основе решений </a:t>
            </a: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Orac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5589720"/>
            <a:ext cx="6659640" cy="792000"/>
          </a:xfrm>
          <a:prstGeom prst="rect">
            <a:avLst/>
          </a:prstGeom>
          <a:solidFill>
            <a:srgbClr val="696a6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ctr">
            <a:normAutofit fontScale="91000"/>
          </a:bodyPr>
          <a:p>
            <a:pPr marL="326520" indent="-326520">
              <a:spcBef>
                <a:spcPts val="17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 годы развития практик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acle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анда СИТРОНИКС реализовала более 15 успешных проектов на предприятиях России и СН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5CAAD-3B77-43E0-818A-9F68B99373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Интеграция информационных систем и бизнес-процессов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50920" y="1268280"/>
            <a:ext cx="864864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Крупные и холдинговые компании часто сталкиваются с проблемами при эксплуатации разнородных приложений, аппаратных и программных платформ, а также баз данных. СИТРОНИКС, обладая богатым опытом по технологической интеграции информационных систем и унификации бизнес-процессов, предлагает предприятиям энергетики свои услуги в этой обл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Картинка 123 из 3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7400" y="2619360"/>
            <a:ext cx="2155680" cy="16002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Картинка 112 из 3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74080" y="3573360"/>
            <a:ext cx="1358640" cy="103356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250920" y="2573280"/>
            <a:ext cx="639108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Интеграция приложений</a:t>
            </a: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(EAI</a:t>
            </a: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)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 — совместное решение несколькими информационными системами общих задач посредством преобразования данных и интерфейсов взаимодействия.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Системы управления бизнес-процессами (BPM)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 -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 служат для управления бизнес-процессами предприятия: их описания, классификации, автоматизации и мониторинга на основе языка 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BPEL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Переход на SOA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 (Service-Oriented Architecture)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 -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 преобразование монолитной ИТ-инфраструктуры в множество стандартизированных, многократно используемых сервисных компонентов, из которых можно собирать необходимые решения.</a:t>
            </a:r>
            <a:r>
              <a:rPr b="1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Портальные решения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 - 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обеспечиваю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n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 сотрудникам, партнерам и клиентам компании доступ к нужной информации и сервисам в соответствии с правами доступ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4F809-DB31-4237-B547-900456AF5A9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Услуги в области сетевой информационной безопасности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41280" y="2332080"/>
            <a:ext cx="8424720" cy="30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Организация и осуществление НИОКР в области сетевой и информационной безопасности. 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Разработка и реализация проектов в области сетевой и информационной безопасности. 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Проектирование и разработка: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f0ca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межсетевых экранов (firewall);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f0ca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сетевых систем обнаружения (IDS) и предотвращения (IPS) вторжений;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f0ca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серверов доступа (VPN-концентраторов);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Разработка и промышленное производство средств технической защиты критически важных сетевых информационных ресурсов. 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Разработка и промышленное производство средств технической защиты критически важных корпоративных информационных ресурсов. 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Разработка и внедрение аппаратно-программных комплексов информационной безопасности. 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Разработка и внедрение аппаратно-программных систем криптографической защиты данных. 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50920" y="1271520"/>
            <a:ext cx="8642160" cy="943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Архитектура систем сетевой безопасности ОАО «СИТРОНИКС» построена на принципах модульности и расширяемости, что позволяет нам независимо разрабатывать отдельные модули системы, наращивая возможности в зависимости от требований заказчиков и конфигурации аппаратных средст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5589720"/>
            <a:ext cx="6958080" cy="809640"/>
          </a:xfrm>
          <a:prstGeom prst="rect">
            <a:avLst/>
          </a:prstGeom>
          <a:solidFill>
            <a:srgbClr val="696a6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ctr">
            <a:noAutofit/>
          </a:bodyPr>
          <a:p>
            <a:pPr marL="358920" indent="-358920">
              <a:spcBef>
                <a:spcPts val="17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Решение обеспечивает комплексную защиту информации и сетевых ресурсов на организациях и на предприят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E1A16-04FE-41FF-957D-A845A6A931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7104240" y="2708280"/>
            <a:ext cx="2039760" cy="292428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40920" y="90000"/>
            <a:ext cx="8505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a6c"/>
                </a:solidFill>
                <a:latin typeface="Arial"/>
              </a:rPr>
              <a:t>Услуги в области проектирования и построения сетей связи следующего поколения (</a:t>
            </a: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NGN) </a:t>
            </a:r>
            <a:r>
              <a:rPr b="1" lang="ru-RU" sz="2000" spc="-1" strike="noStrike">
                <a:solidFill>
                  <a:srgbClr val="696a6c"/>
                </a:solidFill>
                <a:latin typeface="Arial"/>
              </a:rPr>
              <a:t>и беспроводных сетей (</a:t>
            </a: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WiMAX)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51" name="Rectangle 92"/>
          <p:cNvSpPr/>
          <p:nvPr/>
        </p:nvSpPr>
        <p:spPr>
          <a:xfrm>
            <a:off x="341280" y="2170080"/>
            <a:ext cx="751680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Продукты и у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4"/>
              </a:spcBef>
              <a:buClr>
                <a:srgbClr val="f0ca00"/>
              </a:buClr>
              <a:buSzPct val="15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Коммутационное оборудование для сетей фиксированной и подвижной свя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4"/>
              </a:spcBef>
              <a:buClr>
                <a:srgbClr val="f0ca00"/>
              </a:buClr>
              <a:buSzPct val="15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OSS/BSS, биллинг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, 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CRM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4"/>
              </a:spcBef>
              <a:buClr>
                <a:srgbClr val="f0ca00"/>
              </a:buClr>
              <a:buSzPct val="15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NGN (Сети связи следующего поко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4"/>
              </a:spcBef>
              <a:buClr>
                <a:srgbClr val="f0ca00"/>
              </a:buClr>
              <a:buSzPct val="15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Оборудование для Проводного и беспроводного широкополосного доступа </a:t>
            </a:r>
            <a:br>
              <a:rPr sz="1400"/>
            </a:b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Wi-Fi, WiMa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4"/>
              </a:spcBef>
              <a:buClr>
                <a:srgbClr val="f0ca00"/>
              </a:buClr>
              <a:buSzPct val="15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Платформы доставки контента (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IPT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4"/>
              </a:spcBef>
              <a:buClr>
                <a:srgbClr val="f0ca00"/>
              </a:buClr>
              <a:buSzPct val="15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Построение систем транкинговой свя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41280" y="1268280"/>
            <a:ext cx="8551800" cy="720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СИТРОНИКС предлагает решения и услуги по построению комплексной телекоммуникационной инфраструктуры и интеграции как собственных решений и продуктов, так и продуктов сторонних поставщи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41280" y="4417920"/>
            <a:ext cx="7426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Решения СИТРОНИКС позволяю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4"/>
              </a:spcBef>
              <a:buClr>
                <a:srgbClr val="f0ca00"/>
              </a:buClr>
              <a:buSzPct val="15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Повысить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r>
              <a:rPr b="0" lang="el-GR" sz="1400" spc="-1" strike="noStrike">
                <a:solidFill>
                  <a:srgbClr val="696a6c"/>
                </a:solidFill>
                <a:latin typeface="Arial"/>
                <a:ea typeface="Arial"/>
              </a:rPr>
              <a:t>средний доход с абонента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 (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ARPU)</a:t>
            </a:r>
            <a:r>
              <a:rPr b="0" lang="el-GR" sz="14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4"/>
              </a:spcBef>
              <a:buClr>
                <a:srgbClr val="f0ca00"/>
              </a:buClr>
              <a:buSzPct val="15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Контролировать капитальные и операционные расходы, увеличивать 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R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4"/>
              </a:spcBef>
              <a:buClr>
                <a:srgbClr val="f0ca00"/>
              </a:buClr>
              <a:buSzPct val="15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Поддерживать первоклассное состояние сети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и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качество услуг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для удовлетворения нужд потреб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4"/>
              </a:spcBef>
              <a:buClr>
                <a:srgbClr val="f0ca00"/>
              </a:buClr>
              <a:buSzPct val="15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Обеспечить неограниченный широкий доступ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для всех будущих 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4"/>
              </a:spcBef>
              <a:buClr>
                <a:srgbClr val="f0ca00"/>
              </a:buClr>
              <a:buSzPct val="15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Поддерживать гибкость в условиях постоянно меняющихся требований ры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4"/>
              </a:spcBef>
              <a:buClr>
                <a:srgbClr val="f0ca00"/>
              </a:buClr>
              <a:buSzPct val="15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0F62C-73B1-4C9B-B7BF-EF531BBAAE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68360" y="279000"/>
            <a:ext cx="837864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Услуги ИТ-аутсорсинга и поддержки ИТ-инфраструктуры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50920" y="2437920"/>
            <a:ext cx="6300720" cy="39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Предоставление ресурсов - 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уникальная команда из представителей всего спектра IT-специальностей. СИТРОНИКС покрывает дефицит квалифицированных кадров, предоставляя необходимое количество высокоуровневых специалистов нужного профиля на оговоренный срок. 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Поддержка конечных пользователей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 - оказание услуг Help Desk, Service Desk, Управление программным обеспечением рабочих мест, Администрирование работы пользователей 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Управление распределенными IT-системами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 - поддержка территориально распределенных комплексов и информационных систем. Полное сопровождение удаленных офисов. 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Управление IT-инфраструктурой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 - администрирование инфраструктуры Заказчика на системном уровне.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50920" y="1268280"/>
            <a:ext cx="8596080" cy="943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СИТРОНИКС оказывает комплекс услуг по сопровождению и обслуживанию информационных систем заказчика, начиная от поддержки оборудования и IT-инфраструктуры и заканчивая управлением информационной системой в целом или частью процессов ее сопровождения и развит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" descr="Картинка 32 из 5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86640" y="2408400"/>
            <a:ext cx="2206440" cy="201132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Картинка 180 из 37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58080" y="3805200"/>
            <a:ext cx="1709640" cy="124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5BE6B-684E-4440-AEA7-FB490CC6CF0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Федеральная Система Мониторинга и Управления транспортом «НИКА» (совместный проект с ОАО «МТС»)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250920" y="2124000"/>
            <a:ext cx="859608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Одним из основных преимуществ решения является простота и доступность в виду низких капитальных вложении. Для получения информации о местонахождении транспорта необходимо всего лишь подключение рабочих мест сотрудников к интернет и оснащение транспорта абонентскими терминалами ГЛОНАСС-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GPS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\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</a:rPr>
              <a:t>GSM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50920" y="1270080"/>
            <a:ext cx="8642160" cy="718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524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Решение для наблюдения и контроля автотранспорта (НИКА) в режиме реального времени. Спутниковое решение позиционирования транспорта и других объектов для организаций и ведомств, способное увеличить эффективность предприятия и сократить издерж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97"/>
          <p:cNvSpPr/>
          <p:nvPr/>
        </p:nvSpPr>
        <p:spPr>
          <a:xfrm>
            <a:off x="250920" y="3114720"/>
            <a:ext cx="6615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Возможности реш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5589720"/>
            <a:ext cx="6732720" cy="792000"/>
          </a:xfrm>
          <a:prstGeom prst="rect">
            <a:avLst/>
          </a:prstGeom>
          <a:solidFill>
            <a:srgbClr val="696a6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ctr">
            <a:normAutofit fontScale="76000"/>
          </a:bodyPr>
          <a:p>
            <a:pPr marL="272520" indent="-272520">
              <a:spcBef>
                <a:spcPts val="17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 базе решения возможно создание системы мониторинга  и позиционирования  транспортных средств для фельдъегерской службы ФС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50920" y="3473280"/>
            <a:ext cx="715644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524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Мониторинг объектов в реальном масштабе времени на основе систем спутниковой навигации (ГЛОНАСС/GPS) и транспортных GSM-се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24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Повышения общего уровня безопасности транспортного движения за счет контроля его технического состоя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24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Планирование маршрутов и расписаний движения транспортных сред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24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Оптимизация затрат на содержание транспортного пар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24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Интеграция со сторонними информационными систем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7137360" y="3068640"/>
            <a:ext cx="1800360" cy="103968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 rot="21207600">
            <a:off x="7316280" y="3877920"/>
            <a:ext cx="1538280" cy="100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6860E-5432-49EB-8DE7-8DB42530256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8280" y="2552400"/>
            <a:ext cx="8209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a6c"/>
                </a:solidFill>
                <a:latin typeface="Arial"/>
              </a:rPr>
              <a:t>Собственные продукты </a:t>
            </a:r>
            <a:br>
              <a:rPr sz="2800"/>
            </a:br>
            <a:r>
              <a:rPr b="1" lang="en-US" sz="2800" spc="-1" strike="noStrike">
                <a:solidFill>
                  <a:srgbClr val="696a6c"/>
                </a:solidFill>
                <a:latin typeface="Arial"/>
              </a:rPr>
              <a:t>ОАО «СИТРОНИКС»</a:t>
            </a:r>
            <a:endParaRPr b="1" lang="en-US" sz="2800" spc="-1" strike="noStrike">
              <a:solidFill>
                <a:srgbClr val="696a6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1827360" y="2303640"/>
            <a:ext cx="423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</a:rPr>
              <a:t>Содержит все компоненты полноценного вычислительного комплекса. Исполнение мобильного ЦОД стандартно рассчитано на климатические условия Европы и центральной части России, существуют варианты для холодных и жарких климатических зон.</a:t>
            </a:r>
            <a:endParaRPr b="0" lang="en-US" sz="12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197000" y="1268280"/>
            <a:ext cx="7623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6a6c"/>
                </a:solidFill>
                <a:latin typeface="Arial"/>
              </a:rPr>
              <a:t>Готовая инфраструктура для установки ИТ и телеком оборудования, размещенная в стандартном транспортном контейн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97"/>
          <p:cNvSpPr/>
          <p:nvPr/>
        </p:nvSpPr>
        <p:spPr>
          <a:xfrm>
            <a:off x="250920" y="3564000"/>
            <a:ext cx="1441440" cy="184464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Преимуществ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97"/>
          <p:cNvSpPr/>
          <p:nvPr/>
        </p:nvSpPr>
        <p:spPr>
          <a:xfrm>
            <a:off x="250920" y="2259000"/>
            <a:ext cx="1441440" cy="11700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Общая информац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5589720"/>
            <a:ext cx="6732720" cy="792000"/>
          </a:xfrm>
          <a:prstGeom prst="rect">
            <a:avLst/>
          </a:prstGeom>
          <a:solidFill>
            <a:srgbClr val="696a6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ctr">
            <a:normAutofit fontScale="70000"/>
          </a:bodyPr>
          <a:p>
            <a:pPr marL="250920" indent="-250920">
              <a:spcBef>
                <a:spcPts val="17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мкость контейнера достаточна для размещения суперкомпьютера производительностью до 10 Тфлопс, или системы хранения данных емкостью до 1000 Тбай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27360" y="3611520"/>
            <a:ext cx="41400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Быстрота разверты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Не требует подготовленной площад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Российское реш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Экономич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Высокий уровень безопас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Уникальный по соотношению цена/мощ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01"/>
          <p:cNvSpPr/>
          <p:nvPr/>
        </p:nvSpPr>
        <p:spPr>
          <a:xfrm>
            <a:off x="206280" y="3506760"/>
            <a:ext cx="5940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09640" cy="80964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2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a6c"/>
                </a:solidFill>
                <a:latin typeface="Arial"/>
              </a:rPr>
              <a:t>Мобильный центр обработки данных «Ситроникс Датериум™»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5877000" y="1852560"/>
            <a:ext cx="3267000" cy="261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1AABA-7BAD-4293-84E4-301A3D96225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a6c"/>
                </a:solidFill>
                <a:latin typeface="Arial"/>
              </a:rPr>
              <a:t>Мультисервисная информационно-образовательная среда (МИОС)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827360" y="2303640"/>
            <a:ext cx="423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</a:rPr>
              <a:t>Миссия </a:t>
            </a:r>
            <a:r>
              <a:rPr b="1" lang="en-US" sz="1200" spc="-1" strike="noStrike">
                <a:solidFill>
                  <a:srgbClr val="696a6c"/>
                </a:solidFill>
                <a:latin typeface="Arial"/>
              </a:rPr>
              <a:t>МИОС 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</a:rPr>
              <a:t>- способствовать решению основных задач развития и совершенствования современной образовательной системы, охватывая образовательные учреждения от начальной школы до ВУЗов и академий, создавать единую образовательную сеть.</a:t>
            </a:r>
            <a:endParaRPr b="0" lang="en-US" sz="12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197000" y="1268280"/>
            <a:ext cx="7623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</a:rPr>
              <a:t>Инновационное отечественное решение для системы образования, охватывающее все ключевые учебные процессы и масштабируемое до уровня региона и федерального окр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97"/>
          <p:cNvSpPr/>
          <p:nvPr/>
        </p:nvSpPr>
        <p:spPr>
          <a:xfrm>
            <a:off x="250920" y="3564000"/>
            <a:ext cx="1441440" cy="184464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Преимуществ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97"/>
          <p:cNvSpPr/>
          <p:nvPr/>
        </p:nvSpPr>
        <p:spPr>
          <a:xfrm>
            <a:off x="250920" y="2259000"/>
            <a:ext cx="1441440" cy="11700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Общая информац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5589720"/>
            <a:ext cx="6732720" cy="792000"/>
          </a:xfrm>
          <a:prstGeom prst="rect">
            <a:avLst/>
          </a:prstGeom>
          <a:solidFill>
            <a:srgbClr val="696a6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ctr">
            <a:normAutofit fontScale="76000"/>
          </a:bodyPr>
          <a:p>
            <a:pPr marL="272520" indent="-272520">
              <a:spcBef>
                <a:spcPts val="17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ИТРОНИКС предлагает решения, помогающие компаниям сокращать издержки и максимально эффективно использовать имеющие вычислительные ресур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11080" cy="81144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6532560" y="2071800"/>
            <a:ext cx="2360520" cy="279720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3"/>
          <a:stretch/>
        </p:blipFill>
        <p:spPr>
          <a:xfrm>
            <a:off x="6299280" y="3564000"/>
            <a:ext cx="1333440" cy="189072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1827360" y="3611520"/>
            <a:ext cx="41400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Инновационное отечественное решение для системы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Охватывает все основные процессы в образова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Решение масштабируемо на региональный или национальный уровен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Пилотные проекты в Украине и Казахстане, успешно внедряется во многих регионах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01"/>
          <p:cNvSpPr/>
          <p:nvPr/>
        </p:nvSpPr>
        <p:spPr>
          <a:xfrm>
            <a:off x="206280" y="3506760"/>
            <a:ext cx="5940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D8EA1-F927-42CE-BE4A-710D00BA19D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a6c"/>
                </a:solidFill>
                <a:latin typeface="Arial"/>
              </a:rPr>
              <a:t>АгроКлевер - комплексное решение для сельского хозяйства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692000" y="2258640"/>
            <a:ext cx="517500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</a:rPr>
              <a:t>В АгроКлевер™ реализованы как специфичные для всего сельского хозяйства, так и для растениеводческой отрасли в частности, процессы, средства и методы управления информацией, отраслевые справочники. Данная особенность позволяет быстрее достичь необходимых результатов при внедрении решения. Технологии решения адаптированы под особенности ведения деятельности компаний СНГ и неоднократно подтвердила свою эффективность в отечественных предприятиях.</a:t>
            </a:r>
            <a:endParaRPr b="0" lang="en-US" sz="12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197000" y="1270080"/>
            <a:ext cx="7578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524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a6c"/>
                </a:solidFill>
                <a:latin typeface="Arial"/>
              </a:rPr>
              <a:t>АгроКлевер™ является единственным на территории СНГ продуктом, объединяющим как общие функции управления финансами, материальными ресурсами и кадрами, так и специфичные функции управления аграрным производством.</a:t>
            </a:r>
            <a:r>
              <a:rPr b="0" lang="ru-RU" sz="1400" spc="-1" strike="noStrike">
                <a:solidFill>
                  <a:srgbClr val="696a6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97"/>
          <p:cNvSpPr/>
          <p:nvPr/>
        </p:nvSpPr>
        <p:spPr>
          <a:xfrm>
            <a:off x="250920" y="3879720"/>
            <a:ext cx="1441440" cy="15750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Преимуществ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97"/>
          <p:cNvSpPr/>
          <p:nvPr/>
        </p:nvSpPr>
        <p:spPr>
          <a:xfrm>
            <a:off x="250920" y="2259000"/>
            <a:ext cx="1441440" cy="14842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Общая информац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5589720"/>
            <a:ext cx="6732720" cy="792000"/>
          </a:xfrm>
          <a:prstGeom prst="rect">
            <a:avLst/>
          </a:prstGeom>
          <a:solidFill>
            <a:srgbClr val="696a6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ctr">
            <a:normAutofit fontScale="76000"/>
          </a:bodyPr>
          <a:p>
            <a:pPr marL="272520" indent="-272520">
              <a:spcBef>
                <a:spcPts val="17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ИТРОНИКС предлагает решения, помогающие компаниям сокращать издержки и максимально эффективно использовать имеющие вычислительные ресур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692360" y="3925800"/>
            <a:ext cx="5715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Первое в СНГ комплексное решение для аграрных предприя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Повышает урожайность на 15–20% за счет улучшения контроля над выполнением агротехнических процеду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Снижает себестоимость продукции на 10–15% благодаря оптимизации системы контро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Повышает эффективность использования сельхозугод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Упрощает управленческий и финансовый уч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01"/>
          <p:cNvSpPr/>
          <p:nvPr/>
        </p:nvSpPr>
        <p:spPr>
          <a:xfrm>
            <a:off x="250920" y="3833640"/>
            <a:ext cx="65260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7316640" y="2133720"/>
            <a:ext cx="1557360" cy="102528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3"/>
          <a:stretch/>
        </p:blipFill>
        <p:spPr>
          <a:xfrm>
            <a:off x="7316640" y="3298680"/>
            <a:ext cx="1576440" cy="107172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4"/>
          <a:stretch/>
        </p:blipFill>
        <p:spPr>
          <a:xfrm>
            <a:off x="7316640" y="4464000"/>
            <a:ext cx="157644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8353E-DFEE-4CF8-8758-8D2A2ED325B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Номер слайда 2"/>
          <p:cNvSpPr/>
          <p:nvPr/>
        </p:nvSpPr>
        <p:spPr>
          <a:xfrm>
            <a:off x="468360" y="64533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FA37-19F1-4F82-A417-44222A27B99A}" type="slidenum">
              <a:rPr b="0" lang="ru-RU" sz="1000" spc="-1" strike="noStrike">
                <a:solidFill>
                  <a:srgbClr val="696a6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468360" y="64533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D26C-882C-4DC4-86C3-E586422E6A3F}" type="slidenum">
              <a:rPr b="0" lang="ru-RU" sz="1000" spc="-1" strike="noStrike">
                <a:solidFill>
                  <a:srgbClr val="696a6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250920" y="2889360"/>
            <a:ext cx="8664480" cy="2565360"/>
          </a:xfrm>
          <a:prstGeom prst="rect">
            <a:avLst/>
          </a:prstGeom>
          <a:gradFill rotWithShape="0">
            <a:gsLst>
              <a:gs pos="0">
                <a:srgbClr val="eaeaea">
                  <a:alpha val="49019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50920" y="1268280"/>
            <a:ext cx="8686800" cy="1513080"/>
          </a:xfrm>
          <a:prstGeom prst="rect">
            <a:avLst/>
          </a:prstGeom>
          <a:gradFill rotWithShape="0">
            <a:gsLst>
              <a:gs pos="0">
                <a:srgbClr val="eaeaea">
                  <a:alpha val="49019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ОАО «СИТРОНИКС» - Несколько фактов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0560" y="1341000"/>
            <a:ext cx="856908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6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96a6c"/>
                </a:solidFill>
                <a:latin typeface="Arial"/>
              </a:rPr>
              <a:t>Концерн «СИТРОНИКС» входит в состав АФК «СИСТЕМА» - крупнейшей в России и СНГ публичной диверсифицированной корпорации.</a:t>
            </a:r>
            <a:endParaRPr b="0" lang="en-US" sz="15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96a6c"/>
                </a:solidFill>
                <a:latin typeface="Arial"/>
              </a:rPr>
              <a:t>СИТРОНИКС имеет все необходимые ресурсы для реализации проектов любого масштаба в области микроэлектроники, системной интеграции и телекоммуникаций.</a:t>
            </a:r>
            <a:endParaRPr b="0" lang="en-US" sz="15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0" y="5589720"/>
            <a:ext cx="6659640" cy="792000"/>
          </a:xfrm>
          <a:prstGeom prst="rect">
            <a:avLst/>
          </a:prstGeom>
          <a:solidFill>
            <a:srgbClr val="696a6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ctr">
            <a:noAutofit/>
          </a:bodyPr>
          <a:p>
            <a:pPr marL="358920" indent="-358920">
              <a:spcBef>
                <a:spcPts val="17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СИТРОНИКС» – компания №1в рейтинге «Российские информационные и коммуникационные технологии»  в 2008 году (РА «Эксперт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404640" y="3068640"/>
            <a:ext cx="830772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80000"/>
              </a:lnSpc>
              <a:spcBef>
                <a:spcPts val="10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Благодаря СИТРОНИКС, 25 городов РФ имеют возможность оперативного оповещения населения и реагирования на чрезвычайные ситу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10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Более 9 млн. человек в сутки пользуются </a:t>
            </a:r>
            <a:r>
              <a:rPr b="1" i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RFID </a:t>
            </a:r>
            <a:r>
              <a:rPr b="1" i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билетами производства СИТРОНИК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10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Более 3500 компаний во всем мире развивают и совершенствуют свою деятельность с помощью решений и технологий СИТРОНИК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10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Более </a:t>
            </a:r>
            <a:r>
              <a:rPr b="1" i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11</a:t>
            </a:r>
            <a:r>
              <a:rPr b="1" i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5 млн. абонентов мобильной и фиксированной связи во всем мире обслуживается решениями СИТРОНИК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10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Более 500 российских школ используют технологии СИТРОНИКС для повышения качества подготовки учащих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0F13-66CD-4D7F-9065-E48A4A568A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Номер слайда 5"/>
          <p:cNvSpPr/>
          <p:nvPr/>
        </p:nvSpPr>
        <p:spPr>
          <a:xfrm>
            <a:off x="468360" y="64533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3C8A-19AC-42F7-AAF1-AF8E4B01D94F}" type="slidenum">
              <a:rPr b="0" lang="ru-RU" sz="1000" spc="-1" strike="noStrike">
                <a:solidFill>
                  <a:srgbClr val="696a6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МСДМ «НИКА» - наблюдение и контроль автотранспорта в реальном режиме времени 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692360" y="2303280"/>
            <a:ext cx="7154640" cy="116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</a:rPr>
              <a:t>Одним из основных преимуществ решения является простота и доступность в виду низких капитальных вложении. Для получения информации о местонахождении транспорта необходимо всего лишь подключение рабочих мест сотрудников офиса к интернет и оснащение транспорта абонентскими терминалами ГЛОНАСС-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</a:rPr>
              <a:t>GPS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</a:rPr>
              <a:t>\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</a:rPr>
              <a:t>GSM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</a:rPr>
              <a:t>. Находясь вне офиса можно использовать обычный мобильный телефон для получения графической информации о текущем местоположении объекта через 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</a:rPr>
              <a:t>WAP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</a:rPr>
              <a:t>-сервер и 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</a:rPr>
              <a:t>SMS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1224000" y="1224000"/>
            <a:ext cx="753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МСДМ «НИКА» - наблюдение и контроль за автотранспортом в реальном времени. Спутниковое решение позиционирования транспорта и других объектов для корпоративных клиентов и частных лиц, способное увеличить эффективность предприятия и сократить издержки.</a:t>
            </a:r>
            <a:r>
              <a:rPr b="0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97"/>
          <p:cNvSpPr/>
          <p:nvPr/>
        </p:nvSpPr>
        <p:spPr>
          <a:xfrm>
            <a:off x="250920" y="3608280"/>
            <a:ext cx="1441440" cy="184644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Возможности</a:t>
            </a:r>
            <a:br>
              <a:rPr sz="1300"/>
            </a:br>
            <a:r>
              <a:rPr b="1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реше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97"/>
          <p:cNvSpPr/>
          <p:nvPr/>
        </p:nvSpPr>
        <p:spPr>
          <a:xfrm>
            <a:off x="250920" y="2349360"/>
            <a:ext cx="1441440" cy="11239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Общая информац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0" y="5589720"/>
            <a:ext cx="6732720" cy="792000"/>
          </a:xfrm>
          <a:prstGeom prst="rect">
            <a:avLst/>
          </a:prstGeom>
          <a:solidFill>
            <a:srgbClr val="696a6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ctr">
            <a:noAutofit/>
          </a:bodyPr>
          <a:p>
            <a:pPr marL="358920" indent="-358920">
              <a:spcBef>
                <a:spcPts val="17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Решение хорошо зарекомендовало себя в ряде крупных транспортных предприятий Москвы, Зеленограда, Нижневартовска и республики Татарста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"/>
          <p:cNvSpPr/>
          <p:nvPr/>
        </p:nvSpPr>
        <p:spPr>
          <a:xfrm>
            <a:off x="1692360" y="3608280"/>
            <a:ext cx="512928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Мониторинг объектов в реальном масштабе времени на основе систем спутниковой навигации (ГЛОНАСС/GPS) и транспортных GSM-с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Повышения общего уровня безопасности транспортного движения за счет контроля его технического состоя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Планирование маршрутов и расписаний движение транспортных сред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Оптимизация затрат на содержание транспортного пар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Интеграция со сторонними информационными систем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01"/>
          <p:cNvSpPr/>
          <p:nvPr/>
        </p:nvSpPr>
        <p:spPr>
          <a:xfrm>
            <a:off x="206280" y="3519360"/>
            <a:ext cx="87757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10" descr="20080219 Интернет доступ"/>
          <p:cNvPicPr/>
          <p:nvPr/>
        </p:nvPicPr>
        <p:blipFill>
          <a:blip r:embed="rId1"/>
          <a:stretch/>
        </p:blipFill>
        <p:spPr>
          <a:xfrm>
            <a:off x="7093080" y="3654360"/>
            <a:ext cx="1800000" cy="10400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12" descr=""/>
          <p:cNvPicPr/>
          <p:nvPr/>
        </p:nvPicPr>
        <p:blipFill>
          <a:blip r:embed="rId2"/>
          <a:stretch/>
        </p:blipFill>
        <p:spPr>
          <a:xfrm rot="21207600">
            <a:off x="7036920" y="4464000"/>
            <a:ext cx="1584360" cy="10303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3" descr="Копия (2) НИКА"/>
          <p:cNvPicPr/>
          <p:nvPr/>
        </p:nvPicPr>
        <p:blipFill>
          <a:blip r:embed="rId3"/>
          <a:stretch/>
        </p:blipFill>
        <p:spPr>
          <a:xfrm>
            <a:off x="250920" y="1268280"/>
            <a:ext cx="855720" cy="84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41382-0417-4FF2-9C4A-E4E5A1B3FC3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Номер слайда 5"/>
          <p:cNvSpPr/>
          <p:nvPr/>
        </p:nvSpPr>
        <p:spPr>
          <a:xfrm>
            <a:off x="468360" y="64533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843A-1386-42BA-B6B2-9E4DF0F53200}" type="slidenum">
              <a:rPr b="0" lang="ru-RU" sz="1000" spc="-1" strike="noStrike">
                <a:solidFill>
                  <a:srgbClr val="696a6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UTILIS Metering Suite</a:t>
            </a:r>
            <a:r>
              <a:rPr b="1" lang="ru-RU" sz="2000" spc="-1" strike="noStrike">
                <a:solidFill>
                  <a:srgbClr val="696a6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827000" y="2259000"/>
            <a:ext cx="7065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</a:rPr>
              <a:t>Свойства UTILIS Metering Suite позволяют энергокомпаниям снизить расходы на обслуживание измерительной сети, снизить факты самоуправства, делают измерительную систему мощным инструментом в процессе оптимизации бизнеса. К таким свойствам, относится возможность работы системы в режиме приближенном к реальному времени.</a:t>
            </a:r>
            <a:endParaRPr b="0" lang="en-US" sz="12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1197000" y="1268280"/>
            <a:ext cx="7623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696a6c"/>
                </a:solidFill>
                <a:latin typeface="Arial"/>
                <a:ea typeface="Arial"/>
              </a:rPr>
              <a:t>UTILIS Metering Suite </a:t>
            </a: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– это программный комплекс для автоматизированного учета потребляемых энергоресурсов. Система обеспечивает сбор данных с приборов учета, позволяет тестировать и конфигурировать приборы учета, управлять сетью, передавать обработанные данные в другие систе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97"/>
          <p:cNvSpPr/>
          <p:nvPr/>
        </p:nvSpPr>
        <p:spPr>
          <a:xfrm>
            <a:off x="250920" y="3294000"/>
            <a:ext cx="1441440" cy="22050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Возможности</a:t>
            </a:r>
            <a:br>
              <a:rPr sz="1300"/>
            </a:br>
            <a:r>
              <a:rPr b="1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реше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97"/>
          <p:cNvSpPr/>
          <p:nvPr/>
        </p:nvSpPr>
        <p:spPr>
          <a:xfrm>
            <a:off x="250920" y="2259000"/>
            <a:ext cx="1441440" cy="9000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Общая информац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0" y="5589720"/>
            <a:ext cx="6732720" cy="792000"/>
          </a:xfrm>
          <a:prstGeom prst="rect">
            <a:avLst/>
          </a:prstGeom>
          <a:solidFill>
            <a:srgbClr val="696a6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ctr">
            <a:noAutofit/>
          </a:bodyPr>
          <a:p>
            <a:pPr marL="358920" indent="-358920">
              <a:spcBef>
                <a:spcPts val="17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СИТРОНИКС предлагает решения, помогающие компаниям сокращать издержки и максимально эффективно использовать имеющие вычислительные ресур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8"/>
          <p:cNvSpPr/>
          <p:nvPr/>
        </p:nvSpPr>
        <p:spPr>
          <a:xfrm>
            <a:off x="1781280" y="3249720"/>
            <a:ext cx="50860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Масштабируемость до миллионов приборов уч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Независимость от производителей оборуд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Сокращение времени сбора и обработки данны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Исключение человеческого фактора при сборе данны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Обнаружение и локализация потерь поставляемого ресур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Повышение финансовой дисциплины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Обеспечение тарифных планов отвечающих требованиям ры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Единая инфраструктура для различных видов энерго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01"/>
          <p:cNvSpPr/>
          <p:nvPr/>
        </p:nvSpPr>
        <p:spPr>
          <a:xfrm>
            <a:off x="250920" y="3203640"/>
            <a:ext cx="86421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10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900000" cy="8971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11" descr=""/>
          <p:cNvPicPr/>
          <p:nvPr/>
        </p:nvPicPr>
        <p:blipFill>
          <a:blip r:embed="rId2"/>
          <a:srcRect l="33364" t="0" r="0" b="0"/>
          <a:stretch/>
        </p:blipFill>
        <p:spPr>
          <a:xfrm>
            <a:off x="7002360" y="3384720"/>
            <a:ext cx="1889280" cy="158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919F-9913-47EF-BEE0-C88AEC2FE1F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Номер слайда 5"/>
          <p:cNvSpPr/>
          <p:nvPr/>
        </p:nvSpPr>
        <p:spPr>
          <a:xfrm>
            <a:off x="468360" y="64533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20F7-6234-452C-AA72-CD855E323FBF}" type="slidenum">
              <a:rPr b="0" lang="ru-RU" sz="1000" spc="-1" strike="noStrike">
                <a:solidFill>
                  <a:srgbClr val="696a6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SITRONICS FORIS – </a:t>
            </a:r>
            <a:r>
              <a:rPr b="1" lang="ru-RU" sz="2000" spc="-1" strike="noStrike">
                <a:solidFill>
                  <a:srgbClr val="696a6c"/>
                </a:solidFill>
                <a:latin typeface="Arial"/>
              </a:rPr>
              <a:t>конвергентный биллинг нового поколения для современных операторов связи 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692000" y="2259000"/>
            <a:ext cx="49942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FORIS 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 - конвергентное биллинговое решение, функционирующее в режиме реального времени, разработанное для операторов, являющихся лидерами рынка и обладающих сложной инфраструктурой OSS/BSS;</a:t>
            </a:r>
            <a:endParaRPr b="0" lang="en-US" sz="12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FORIS является проверенной биллинговой платформой операторского класса;</a:t>
            </a:r>
            <a:endParaRPr b="0" lang="en-US" sz="1200" spc="-1" strike="noStrike">
              <a:solidFill>
                <a:srgbClr val="696a6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</a:rPr>
              <a:t>FORIS - открытая, реконфигурируемая система, которая может быть легко интегрирована с существующей инфраструктурой оператора.</a:t>
            </a:r>
            <a:endParaRPr b="0" lang="en-US" sz="12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1197000" y="1268280"/>
            <a:ext cx="7578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a6c"/>
                </a:solidFill>
                <a:latin typeface="Arial"/>
                <a:ea typeface="Arial"/>
              </a:rPr>
              <a:t>SITRONICS FORIS - </a:t>
            </a:r>
            <a:r>
              <a:rPr b="1" lang="ru-RU" sz="1400" spc="-1" strike="noStrike">
                <a:solidFill>
                  <a:srgbClr val="696a6c"/>
                </a:solidFill>
                <a:latin typeface="Arial"/>
                <a:ea typeface="Arial"/>
              </a:rPr>
              <a:t>Комплексная система конвергентного биллинга, которая обслуживает абонентов сетей фиксированной/ мобильной связи, предоставляет конвергентные услу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97"/>
          <p:cNvSpPr/>
          <p:nvPr/>
        </p:nvSpPr>
        <p:spPr>
          <a:xfrm>
            <a:off x="250920" y="4464000"/>
            <a:ext cx="1441440" cy="9000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Преимуществ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97"/>
          <p:cNvSpPr/>
          <p:nvPr/>
        </p:nvSpPr>
        <p:spPr>
          <a:xfrm>
            <a:off x="250920" y="2259000"/>
            <a:ext cx="1441440" cy="20131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96a6c"/>
                </a:solidFill>
                <a:latin typeface="Arial"/>
                <a:ea typeface="Arial"/>
              </a:rPr>
              <a:t>Общая информац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0" y="5589720"/>
            <a:ext cx="6732720" cy="792000"/>
          </a:xfrm>
          <a:prstGeom prst="rect">
            <a:avLst/>
          </a:prstGeom>
          <a:solidFill>
            <a:srgbClr val="696a6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ctr">
            <a:noAutofit/>
          </a:bodyPr>
          <a:p>
            <a:pPr marL="358920" indent="-358920">
              <a:spcBef>
                <a:spcPts val="17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СИТРОНИКС предлагает решения, помогающие компаниям сокращать издержки и максимально эффективно использовать имеющие вычислительные ресур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8"/>
          <p:cNvSpPr/>
          <p:nvPr/>
        </p:nvSpPr>
        <p:spPr>
          <a:xfrm>
            <a:off x="1692360" y="4554360"/>
            <a:ext cx="5040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Конвергенция для всех абонентов – </a:t>
            </a:r>
            <a:r>
              <a:rPr b="0" lang="en-GB" sz="1200" spc="-1" strike="noStrike">
                <a:solidFill>
                  <a:srgbClr val="696a6c"/>
                </a:solidFill>
                <a:latin typeface="Arial"/>
                <a:ea typeface="Arial"/>
              </a:rPr>
              <a:t>Pre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/</a:t>
            </a:r>
            <a:r>
              <a:rPr b="0" lang="en-GB" sz="1200" spc="-1" strike="noStrike">
                <a:solidFill>
                  <a:srgbClr val="696a6c"/>
                </a:solidFill>
                <a:latin typeface="Arial"/>
                <a:ea typeface="Arial"/>
              </a:rPr>
              <a:t>postpaid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Конвергенция всех услуг –Голосовые/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передача данных/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контен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Конвергенция сетей – фиксированных/мобильных/</a:t>
            </a:r>
            <a:r>
              <a:rPr b="0" lang="en-GB" sz="1200" spc="-1" strike="noStrike">
                <a:solidFill>
                  <a:srgbClr val="696a6c"/>
                </a:solidFill>
                <a:latin typeface="Arial"/>
                <a:ea typeface="Arial"/>
              </a:rPr>
              <a:t>NGN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/</a:t>
            </a:r>
            <a:r>
              <a:rPr b="0" lang="en-GB" sz="1200" spc="-1" strike="noStrike">
                <a:solidFill>
                  <a:srgbClr val="696a6c"/>
                </a:solidFill>
                <a:latin typeface="Arial"/>
                <a:ea typeface="Arial"/>
              </a:rPr>
              <a:t>IMS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01"/>
          <p:cNvSpPr/>
          <p:nvPr/>
        </p:nvSpPr>
        <p:spPr>
          <a:xfrm>
            <a:off x="206280" y="4373640"/>
            <a:ext cx="65264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10" descr=""/>
          <p:cNvPicPr/>
          <p:nvPr/>
        </p:nvPicPr>
        <p:blipFill>
          <a:blip r:embed="rId1">
            <a:lum contrast="6000"/>
          </a:blip>
          <a:srcRect l="1773" t="2937" r="2660" b="2487"/>
          <a:stretch/>
        </p:blipFill>
        <p:spPr>
          <a:xfrm>
            <a:off x="250920" y="1268280"/>
            <a:ext cx="855720" cy="85248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" descr="Box_FORIS copy.png"/>
          <p:cNvPicPr/>
          <p:nvPr/>
        </p:nvPicPr>
        <p:blipFill>
          <a:blip r:embed="rId2"/>
          <a:stretch/>
        </p:blipFill>
        <p:spPr>
          <a:xfrm>
            <a:off x="6912000" y="3878280"/>
            <a:ext cx="1709640" cy="16956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2" descr=""/>
          <p:cNvPicPr/>
          <p:nvPr/>
        </p:nvPicPr>
        <p:blipFill>
          <a:blip r:embed="rId3"/>
          <a:stretch/>
        </p:blipFill>
        <p:spPr>
          <a:xfrm>
            <a:off x="6823080" y="2259000"/>
            <a:ext cx="1844640" cy="14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A2927-16DA-40BB-94B3-4CC54BAE7FC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46280" y="2303280"/>
            <a:ext cx="7920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a6c"/>
                </a:solidFill>
                <a:latin typeface="Arial"/>
              </a:rPr>
              <a:t>Спасибо!</a:t>
            </a:r>
            <a:endParaRPr b="1" lang="en-US" sz="2400" spc="-1" strike="noStrike">
              <a:solidFill>
                <a:srgbClr val="696a6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Номер слайда 4"/>
          <p:cNvSpPr/>
          <p:nvPr/>
        </p:nvSpPr>
        <p:spPr>
          <a:xfrm>
            <a:off x="468360" y="64533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5E37-69AB-4DC1-906D-EC0BD831F341}" type="slidenum">
              <a:rPr b="0" lang="ru-RU" sz="1000" spc="-1" strike="noStrike">
                <a:solidFill>
                  <a:srgbClr val="696a6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СИТРОНИКС:</a:t>
            </a:r>
            <a:br>
              <a:rPr sz="2000"/>
            </a:b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Основные направления деятельности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0" y="179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250920" y="1854360"/>
            <a:ext cx="2792160" cy="350964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1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Один из ведущих поставщиков решений, продуктов и услуг в области информационных технологий в странах СНГ и Восточной Европ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Фокус на быстрорастущих отраслях:  телекоммуникации,  банковские услуги,  розничная торговля, страхование, энергетика и государственный секто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Более 19 лет рынке информационных технолог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3222720" y="1854360"/>
            <a:ext cx="2789280" cy="350964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едущий поставщик комплексных решений в областях систем поддержки операционной и бизнес-деятельности операторов связи, сетей следующего поколения, сетей широкополосного доступа и решений для цифрового телеви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продукты: сети следующего поколения (NGN),  OSS/BSS, IPTV, беспроводные системы широкополосного доступа и передачи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нфраструктура  для НИОКР и гибкая производственная ба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6191280" y="1854360"/>
            <a:ext cx="2790720" cy="3509640"/>
          </a:xfrm>
          <a:prstGeom prst="rect">
            <a:avLst/>
          </a:prstGeom>
          <a:solidFill>
            <a:srgbClr val="00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1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Ведущий российский производитель микроэлектрони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Осуществляет производство и поставку интегральных схем, решений на основе смарт- и RFID-технологий: SIM-карты, банковские карты, транспортные карты и проездные билеты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40-летний опыт деятельно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"/>
          <p:cNvSpPr/>
          <p:nvPr/>
        </p:nvSpPr>
        <p:spPr>
          <a:xfrm>
            <a:off x="0" y="5589720"/>
            <a:ext cx="6659640" cy="792000"/>
          </a:xfrm>
          <a:prstGeom prst="rect">
            <a:avLst/>
          </a:prstGeom>
          <a:solidFill>
            <a:srgbClr val="696a6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ctr">
            <a:noAutofit/>
          </a:bodyPr>
          <a:p>
            <a:pPr marL="358920" indent="-358920">
              <a:spcBef>
                <a:spcPts val="17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СИТРОНИКС занимает лидирующие позиции в ключевых направлениях свое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6" descr=""/>
          <p:cNvPicPr/>
          <p:nvPr/>
        </p:nvPicPr>
        <p:blipFill>
          <a:blip r:embed="rId1"/>
          <a:stretch/>
        </p:blipFill>
        <p:spPr>
          <a:xfrm>
            <a:off x="533520" y="1290600"/>
            <a:ext cx="2282760" cy="517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7" descr=""/>
          <p:cNvPicPr/>
          <p:nvPr/>
        </p:nvPicPr>
        <p:blipFill>
          <a:blip r:embed="rId2"/>
          <a:stretch/>
        </p:blipFill>
        <p:spPr>
          <a:xfrm>
            <a:off x="6462720" y="1274760"/>
            <a:ext cx="2290680" cy="4446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8" descr=""/>
          <p:cNvPicPr/>
          <p:nvPr/>
        </p:nvPicPr>
        <p:blipFill>
          <a:blip r:embed="rId3"/>
          <a:stretch/>
        </p:blipFill>
        <p:spPr>
          <a:xfrm>
            <a:off x="3494160" y="1319040"/>
            <a:ext cx="2292120" cy="44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93A33-D2F3-4499-9F26-6BF8DEE8F0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2"/>
          <p:cNvSpPr/>
          <p:nvPr/>
        </p:nvSpPr>
        <p:spPr>
          <a:xfrm>
            <a:off x="468360" y="64533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96BB-C159-41A9-8A6F-08B06721793F}" type="slidenum">
              <a:rPr b="0" lang="ru-RU" sz="1000" spc="-1" strike="noStrike">
                <a:solidFill>
                  <a:srgbClr val="696a6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-360" y="-2744640"/>
            <a:ext cx="36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15" name="Line 98"/>
          <p:cNvSpPr/>
          <p:nvPr/>
        </p:nvSpPr>
        <p:spPr>
          <a:xfrm>
            <a:off x="7437600" y="1204920"/>
            <a:ext cx="0" cy="563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98"/>
          <p:cNvSpPr/>
          <p:nvPr/>
        </p:nvSpPr>
        <p:spPr>
          <a:xfrm>
            <a:off x="3890880" y="119700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98"/>
          <p:cNvSpPr/>
          <p:nvPr/>
        </p:nvSpPr>
        <p:spPr>
          <a:xfrm>
            <a:off x="5587920" y="1198440"/>
            <a:ext cx="0" cy="569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7"/>
          <p:cNvSpPr/>
          <p:nvPr/>
        </p:nvSpPr>
        <p:spPr>
          <a:xfrm>
            <a:off x="252360" y="1996920"/>
            <a:ext cx="1393920" cy="17020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96a6c"/>
                </a:solidFill>
                <a:latin typeface="Arial"/>
                <a:ea typeface="Arial"/>
              </a:rPr>
              <a:t>Продукты </a:t>
            </a:r>
            <a:br>
              <a:rPr sz="1500"/>
            </a:br>
            <a:r>
              <a:rPr b="1" lang="ru-RU" sz="1500" spc="-1" strike="noStrike">
                <a:solidFill>
                  <a:srgbClr val="696a6c"/>
                </a:solidFill>
                <a:latin typeface="Arial"/>
                <a:ea typeface="Arial"/>
              </a:rPr>
              <a:t>и услуг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97"/>
          <p:cNvSpPr/>
          <p:nvPr/>
        </p:nvSpPr>
        <p:spPr>
          <a:xfrm>
            <a:off x="250920" y="3878280"/>
            <a:ext cx="1395360" cy="139536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96a6c"/>
                </a:solidFill>
                <a:latin typeface="Arial"/>
                <a:ea typeface="Arial"/>
              </a:rPr>
              <a:t>Ключевые клиент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1692360" y="1258920"/>
            <a:ext cx="2293920" cy="595440"/>
          </a:xfrm>
          <a:prstGeom prst="rect">
            <a:avLst/>
          </a:prstGeom>
          <a:solidFill>
            <a:srgbClr val="f0ca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ИТ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4148280" y="1254240"/>
            <a:ext cx="2268360" cy="600120"/>
          </a:xfrm>
          <a:prstGeom prst="rect">
            <a:avLst/>
          </a:prstGeom>
          <a:solidFill>
            <a:srgbClr val="f0ca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Телекоммуникации  и интег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6551640" y="1233360"/>
            <a:ext cx="2341440" cy="600120"/>
          </a:xfrm>
          <a:prstGeom prst="rect">
            <a:avLst/>
          </a:prstGeom>
          <a:solidFill>
            <a:srgbClr val="f0ca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ИТ Дистрибу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468360" y="117360"/>
            <a:ext cx="820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  <a:ea typeface="Arial"/>
              </a:rPr>
              <a:t>СИТРОНИКС Информационные 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1763640" y="1940040"/>
            <a:ext cx="208764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Системная интеграция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Бизнес-консал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Внедрение бизнес-при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Создание ИТ-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4176720" y="1940040"/>
            <a:ext cx="208764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Внедрение 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OSS/BSS 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Построение мультисервисных с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Платформы 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6551640" y="1974960"/>
            <a:ext cx="208764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Поставка комплекту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Поставка программного обеспечения</a:t>
            </a:r>
            <a:r>
              <a:rPr b="0" lang="en-GB" sz="12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0" y="5589720"/>
            <a:ext cx="6659640" cy="792000"/>
          </a:xfrm>
          <a:prstGeom prst="rect">
            <a:avLst/>
          </a:prstGeom>
          <a:solidFill>
            <a:srgbClr val="696a6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ctr">
            <a:noAutofit/>
          </a:bodyPr>
          <a:p>
            <a:pPr marL="358920" indent="-358920">
              <a:spcBef>
                <a:spcPts val="17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СИТРОНИКС Информационные технологии» - международный системный интегратор и поставщик ИТ 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6"/>
          <p:cNvSpPr/>
          <p:nvPr/>
        </p:nvSpPr>
        <p:spPr>
          <a:xfrm>
            <a:off x="1781280" y="4070520"/>
            <a:ext cx="69498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МЭРТ РФ, Министерство Обрнауки РФ и Украины, МЧС РФ, Госкомстат Укра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МТС, «Комстар», 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Skylink, 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«Укртелеком», «Астелит», 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BITE, 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Куда.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МБРР, «Первый украинский международный банк», «Укрсоцбанк», СК «РОСНО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ОАО «Запорожкокс», 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RSJ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, «Северсталь», «Мечел», АК «Сибур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01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12600">
            <a:solidFill>
              <a:srgbClr val="f0c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01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12600">
            <a:solidFill>
              <a:srgbClr val="f0c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B4E83-A404-406B-B17B-080580CB77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2"/>
          <p:cNvSpPr/>
          <p:nvPr/>
        </p:nvSpPr>
        <p:spPr>
          <a:xfrm>
            <a:off x="468360" y="64533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7256-024A-46EE-8100-57F28C998438}" type="slidenum">
              <a:rPr b="0" lang="ru-RU" sz="1000" spc="-1" strike="noStrike">
                <a:solidFill>
                  <a:srgbClr val="696a6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-2744640"/>
            <a:ext cx="36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33" name="Line 98"/>
          <p:cNvSpPr/>
          <p:nvPr/>
        </p:nvSpPr>
        <p:spPr>
          <a:xfrm>
            <a:off x="7437600" y="1204920"/>
            <a:ext cx="0" cy="563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8"/>
          <p:cNvSpPr/>
          <p:nvPr/>
        </p:nvSpPr>
        <p:spPr>
          <a:xfrm>
            <a:off x="3890880" y="119700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98"/>
          <p:cNvSpPr/>
          <p:nvPr/>
        </p:nvSpPr>
        <p:spPr>
          <a:xfrm>
            <a:off x="5587920" y="1198440"/>
            <a:ext cx="0" cy="569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7227720" y="2019240"/>
            <a:ext cx="1692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Разработка П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Контроль за качеством се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Аутсорсинг/</a:t>
            </a:r>
            <a:br>
              <a:rPr sz="1200"/>
            </a:b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Аутстаффин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Строительство сетей под клю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5472000" y="1989000"/>
            <a:ext cx="1844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89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96a6c"/>
                </a:solidFill>
                <a:latin typeface="Arial"/>
                <a:ea typeface="Arial"/>
              </a:rPr>
              <a:t>Биллинговые решения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96a6c"/>
                </a:solidFill>
                <a:latin typeface="Arial"/>
                <a:ea typeface="Arial"/>
              </a:rPr>
              <a:t>Контроль</a:t>
            </a:r>
            <a:br>
              <a:rPr sz="1100"/>
            </a:br>
            <a:r>
              <a:rPr b="0" lang="ru-RU" sz="1100" spc="-1" strike="noStrike">
                <a:solidFill>
                  <a:srgbClr val="696a6c"/>
                </a:solidFill>
                <a:latin typeface="Arial"/>
                <a:ea typeface="Arial"/>
              </a:rPr>
              <a:t>доходов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96a6c"/>
                </a:solidFill>
                <a:latin typeface="Arial"/>
                <a:ea typeface="Arial"/>
              </a:rPr>
              <a:t>Партнеры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96a6c"/>
                </a:solidFill>
                <a:latin typeface="Arial"/>
                <a:ea typeface="Arial"/>
              </a:rPr>
              <a:t>Управление эффективностью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96a6c"/>
                </a:solidFill>
                <a:latin typeface="Arial"/>
                <a:ea typeface="Arial"/>
              </a:rPr>
              <a:t>Управление услугам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96a6c"/>
                </a:solidFill>
                <a:latin typeface="Arial"/>
                <a:ea typeface="Arial"/>
              </a:rPr>
              <a:t>Предоставление услуг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96a6c"/>
                </a:solidFill>
                <a:latin typeface="Arial"/>
                <a:ea typeface="Arial"/>
              </a:rPr>
              <a:t>Оборудовани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3716280" y="1989000"/>
            <a:ext cx="180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Оборудование передачи данных на базе радиорелейной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Решения для широкополосного доступ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Решения для беспроводного широкополосного досту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1547640" y="1989000"/>
            <a:ext cx="208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NGN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/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Программные коммутаторы/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Цифровые коммутато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Оборудование для сетей передачи данны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Платформы 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VAS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&amp; IN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Оборудование для мобильных с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IPTV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7"/>
          <p:cNvSpPr/>
          <p:nvPr/>
        </p:nvSpPr>
        <p:spPr>
          <a:xfrm>
            <a:off x="250920" y="2023920"/>
            <a:ext cx="1225440" cy="25210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96a6c"/>
                </a:solidFill>
                <a:latin typeface="Arial"/>
                <a:ea typeface="Arial"/>
              </a:rPr>
              <a:t>Продукты </a:t>
            </a:r>
            <a:br>
              <a:rPr sz="1500"/>
            </a:br>
            <a:r>
              <a:rPr b="1" lang="ru-RU" sz="1500" spc="-1" strike="noStrike">
                <a:solidFill>
                  <a:srgbClr val="696a6c"/>
                </a:solidFill>
                <a:latin typeface="Arial"/>
                <a:ea typeface="Arial"/>
              </a:rPr>
              <a:t>и услуг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7"/>
          <p:cNvSpPr/>
          <p:nvPr/>
        </p:nvSpPr>
        <p:spPr>
          <a:xfrm>
            <a:off x="250920" y="4761000"/>
            <a:ext cx="1225440" cy="5587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96a6c"/>
                </a:solidFill>
                <a:latin typeface="Arial"/>
                <a:ea typeface="Arial"/>
              </a:rPr>
              <a:t>Ключевые клиент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01"/>
          <p:cNvSpPr/>
          <p:nvPr/>
        </p:nvSpPr>
        <p:spPr>
          <a:xfrm>
            <a:off x="252360" y="4653000"/>
            <a:ext cx="871236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1692360" y="1258920"/>
            <a:ext cx="1942920" cy="595440"/>
          </a:xfrm>
          <a:prstGeom prst="rect">
            <a:avLst/>
          </a:prstGeom>
          <a:solidFill>
            <a:srgbClr val="f0ca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етевые решения/ Доставка конт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3753000" y="1254240"/>
            <a:ext cx="1763640" cy="600120"/>
          </a:xfrm>
          <a:prstGeom prst="rect">
            <a:avLst/>
          </a:prstGeom>
          <a:solidFill>
            <a:srgbClr val="f0ca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оступ/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5607000" y="1254240"/>
            <a:ext cx="1575000" cy="600120"/>
          </a:xfrm>
          <a:prstGeom prst="rect">
            <a:avLst/>
          </a:prstGeom>
          <a:solidFill>
            <a:srgbClr val="f0ca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SS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6"/>
          <p:cNvSpPr/>
          <p:nvPr/>
        </p:nvSpPr>
        <p:spPr>
          <a:xfrm>
            <a:off x="7272360" y="1254240"/>
            <a:ext cx="1620720" cy="600120"/>
          </a:xfrm>
          <a:prstGeom prst="rect">
            <a:avLst/>
          </a:prstGeom>
          <a:solidFill>
            <a:srgbClr val="f0ca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 anchorCtr="1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ьные услуг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7"/>
          <p:cNvSpPr/>
          <p:nvPr/>
        </p:nvSpPr>
        <p:spPr>
          <a:xfrm>
            <a:off x="468360" y="117360"/>
            <a:ext cx="820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  <a:ea typeface="Arial"/>
              </a:rPr>
              <a:t>СИТРОНИКС Телекоммуникационные 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01"/>
          <p:cNvSpPr/>
          <p:nvPr/>
        </p:nvSpPr>
        <p:spPr>
          <a:xfrm>
            <a:off x="216000" y="1916280"/>
            <a:ext cx="87120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9"/>
          <p:cNvSpPr/>
          <p:nvPr/>
        </p:nvSpPr>
        <p:spPr>
          <a:xfrm>
            <a:off x="0" y="5589720"/>
            <a:ext cx="6659640" cy="792000"/>
          </a:xfrm>
          <a:prstGeom prst="rect">
            <a:avLst/>
          </a:prstGeom>
          <a:solidFill>
            <a:srgbClr val="696a6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ctr">
            <a:noAutofit/>
          </a:bodyPr>
          <a:p>
            <a:pPr marL="358920" indent="-358920">
              <a:spcBef>
                <a:spcPts val="17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СИТРОНИКС Телекоммуникационные решения» - надежный партнер ведущих мировых операторов связ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0"/>
          <p:cNvSpPr/>
          <p:nvPr/>
        </p:nvSpPr>
        <p:spPr>
          <a:xfrm>
            <a:off x="1536840" y="4915080"/>
            <a:ext cx="69498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ОАО «МТС», Система Масс-Медиа, 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Vodafone, 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МГТС, Комстар-ОТС, 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OTE, Warid 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75FA-5519-430D-B806-0405A5B265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Номер слайда 2"/>
          <p:cNvSpPr/>
          <p:nvPr/>
        </p:nvSpPr>
        <p:spPr>
          <a:xfrm>
            <a:off x="468360" y="64533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FACB-9C70-4FA0-A01B-EB6165DA4623}" type="slidenum">
              <a:rPr b="0" lang="ru-RU" sz="1000" spc="-1" strike="noStrike">
                <a:solidFill>
                  <a:srgbClr val="696a6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-2744640"/>
            <a:ext cx="36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sp>
        <p:nvSpPr>
          <p:cNvPr id="353" name="Rectangle 96"/>
          <p:cNvSpPr/>
          <p:nvPr/>
        </p:nvSpPr>
        <p:spPr>
          <a:xfrm>
            <a:off x="250920" y="3068640"/>
            <a:ext cx="1395360" cy="115236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96a6c"/>
                </a:solidFill>
                <a:latin typeface="Arial"/>
                <a:ea typeface="Arial"/>
              </a:rPr>
              <a:t>Текущие проект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1719360" y="1160640"/>
            <a:ext cx="712764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75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Крупнейший Российский производитель с более чем 40 летней истор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Целевые рынки – СНГ и Юго-Восточная Аз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Вертикально структурированный производитель</a:t>
            </a:r>
            <a:r>
              <a:rPr b="0" lang="en-GB" sz="1200" spc="-1" strike="noStrike">
                <a:solidFill>
                  <a:srgbClr val="696a6c"/>
                </a:solidFill>
                <a:latin typeface="Arial"/>
                <a:ea typeface="Arial"/>
              </a:rPr>
              <a:t> c 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передовыми технологиями; </a:t>
            </a:r>
            <a:r>
              <a:rPr b="0" lang="en-GB" sz="12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Налаженные каналы сбыта</a:t>
            </a:r>
            <a:r>
              <a:rPr b="0" lang="en-GB" sz="1200" spc="-1" strike="noStrike">
                <a:solidFill>
                  <a:srgbClr val="696a6c"/>
                </a:solidFill>
                <a:latin typeface="Arial"/>
                <a:ea typeface="Arial"/>
              </a:rPr>
              <a:t> (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около </a:t>
            </a:r>
            <a:r>
              <a:rPr b="0" lang="en-GB" sz="1200" spc="-1" strike="noStrike">
                <a:solidFill>
                  <a:srgbClr val="696a6c"/>
                </a:solidFill>
                <a:latin typeface="Arial"/>
                <a:ea typeface="Arial"/>
              </a:rPr>
              <a:t>600 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клиентов в СНГ и Юго-Восточной Азия</a:t>
            </a:r>
            <a:r>
              <a:rPr b="0" lang="en-GB" sz="1200" spc="-1" strike="noStrike">
                <a:solidFill>
                  <a:srgbClr val="696a6c"/>
                </a:solidFill>
                <a:latin typeface="Arial"/>
                <a:ea typeface="Arial"/>
              </a:rPr>
              <a:t>)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Стратегический партнер таких мировых лидеров, как </a:t>
            </a:r>
            <a:r>
              <a:rPr b="0" lang="en-GB" sz="1200" spc="-1" strike="noStrike">
                <a:solidFill>
                  <a:srgbClr val="696a6c"/>
                </a:solidFill>
                <a:latin typeface="Arial"/>
                <a:ea typeface="Arial"/>
              </a:rPr>
              <a:t>ST Microelectronics, Infineon, G&amp;D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Производство сертифицировано по стандарту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ISO 140001:2004</a:t>
            </a:r>
            <a:r>
              <a:rPr b="1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1736640" y="3063960"/>
            <a:ext cx="72104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Микрочипы на пластин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Производство упакованных микрочипов 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(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запущено в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 2006)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Производство чип моду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Смарт-карты и решения на их основе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– SIM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-карты и 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RFID - 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транспортные карты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 (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запущено в</a:t>
            </a: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 2006)</a:t>
            </a:r>
            <a:r>
              <a:rPr b="0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5"/>
          <p:cNvSpPr/>
          <p:nvPr/>
        </p:nvSpPr>
        <p:spPr>
          <a:xfrm>
            <a:off x="468360" y="117360"/>
            <a:ext cx="820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  <a:ea typeface="Arial"/>
              </a:rPr>
              <a:t>СИТРОНИКС Микроэлектронные 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6"/>
          <p:cNvSpPr/>
          <p:nvPr/>
        </p:nvSpPr>
        <p:spPr>
          <a:xfrm>
            <a:off x="0" y="5589720"/>
            <a:ext cx="6659640" cy="792000"/>
          </a:xfrm>
          <a:prstGeom prst="rect">
            <a:avLst/>
          </a:prstGeom>
          <a:solidFill>
            <a:srgbClr val="696a6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ctr">
            <a:noAutofit/>
          </a:bodyPr>
          <a:p>
            <a:pPr marL="358920" indent="-358920">
              <a:spcBef>
                <a:spcPts val="17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СИТРОНИКС Микроэлектронные решения» - ведущий российский производитель микроэлектро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01"/>
          <p:cNvSpPr/>
          <p:nvPr/>
        </p:nvSpPr>
        <p:spPr>
          <a:xfrm>
            <a:off x="216000" y="2979720"/>
            <a:ext cx="867708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97"/>
          <p:cNvSpPr/>
          <p:nvPr/>
        </p:nvSpPr>
        <p:spPr>
          <a:xfrm>
            <a:off x="250920" y="1224000"/>
            <a:ext cx="1395360" cy="166536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96a6c"/>
                </a:solidFill>
                <a:latin typeface="Arial"/>
                <a:ea typeface="Arial"/>
              </a:rPr>
              <a:t>Общая информац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01"/>
          <p:cNvSpPr/>
          <p:nvPr/>
        </p:nvSpPr>
        <p:spPr>
          <a:xfrm>
            <a:off x="250920" y="4329000"/>
            <a:ext cx="867708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7"/>
          <p:cNvSpPr/>
          <p:nvPr/>
        </p:nvSpPr>
        <p:spPr>
          <a:xfrm>
            <a:off x="250920" y="4435560"/>
            <a:ext cx="1395360" cy="9730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96a6c"/>
                </a:solidFill>
                <a:latin typeface="Arial"/>
                <a:ea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96a6c"/>
                </a:solidFill>
                <a:latin typeface="Arial"/>
                <a:ea typeface="Arial"/>
              </a:rPr>
              <a:t>Ключевые потребител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1736640" y="4419720"/>
            <a:ext cx="706608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Производители бытовой техники и электроники из Ю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Российские производители электронной техн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Мобильные операто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ca00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Метрополитен, Общественный наземный транспо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0220A-32D6-4EBC-93A4-499419F6BB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Номер слайда 4"/>
          <p:cNvSpPr/>
          <p:nvPr/>
        </p:nvSpPr>
        <p:spPr>
          <a:xfrm>
            <a:off x="468360" y="64533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654E-5EBB-43D4-8946-57A3E3B1F88B}" type="slidenum">
              <a:rPr b="0" lang="ru-RU" sz="1000" spc="-1" strike="noStrike">
                <a:solidFill>
                  <a:srgbClr val="696a6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СИТРОНИКС:</a:t>
            </a:r>
            <a:br>
              <a:rPr sz="2000"/>
            </a:br>
            <a:r>
              <a:rPr b="1" lang="en-US" sz="2000" spc="-1" strike="noStrike">
                <a:solidFill>
                  <a:srgbClr val="696a6c"/>
                </a:solidFill>
                <a:latin typeface="Arial"/>
              </a:rPr>
              <a:t>Ключевые клиенты в отраслях</a:t>
            </a:r>
            <a:endParaRPr b="1" lang="en-US" sz="2000" spc="-1" strike="noStrike">
              <a:solidFill>
                <a:srgbClr val="696a6c"/>
              </a:solidFill>
              <a:latin typeface="Arial"/>
            </a:endParaRPr>
          </a:p>
        </p:txBody>
      </p:sp>
      <p:pic>
        <p:nvPicPr>
          <p:cNvPr id="365" name="Picture 4" descr="The coat of arms of the ministry used until 2007"/>
          <p:cNvPicPr/>
          <p:nvPr/>
        </p:nvPicPr>
        <p:blipFill>
          <a:blip r:embed="rId1"/>
          <a:stretch/>
        </p:blipFill>
        <p:spPr>
          <a:xfrm>
            <a:off x="7767720" y="4716360"/>
            <a:ext cx="492120" cy="736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2"/>
          <a:stretch/>
        </p:blipFill>
        <p:spPr>
          <a:xfrm>
            <a:off x="3828960" y="5094360"/>
            <a:ext cx="1417680" cy="4078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"/>
          <p:cNvPicPr/>
          <p:nvPr/>
        </p:nvPicPr>
        <p:blipFill>
          <a:blip r:embed="rId3"/>
          <a:stretch/>
        </p:blipFill>
        <p:spPr>
          <a:xfrm>
            <a:off x="1982880" y="4743360"/>
            <a:ext cx="654120" cy="627120"/>
          </a:xfrm>
          <a:prstGeom prst="rect">
            <a:avLst/>
          </a:prstGeom>
          <a:ln w="0">
            <a:noFill/>
          </a:ln>
        </p:spPr>
      </p:pic>
      <p:sp>
        <p:nvSpPr>
          <p:cNvPr id="368" name="Line 7"/>
          <p:cNvSpPr/>
          <p:nvPr/>
        </p:nvSpPr>
        <p:spPr>
          <a:xfrm>
            <a:off x="565200" y="4129200"/>
            <a:ext cx="0" cy="87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54000" bIns="54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8879040" y="4433760"/>
            <a:ext cx="0" cy="87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54000" bIns="54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9" descr="180px-MTS_Logo"/>
          <p:cNvPicPr/>
          <p:nvPr/>
        </p:nvPicPr>
        <p:blipFill>
          <a:blip r:embed="rId4"/>
          <a:stretch/>
        </p:blipFill>
        <p:spPr>
          <a:xfrm>
            <a:off x="2246400" y="3673440"/>
            <a:ext cx="722160" cy="379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130px-Comstar_new_logo"/>
          <p:cNvPicPr/>
          <p:nvPr/>
        </p:nvPicPr>
        <p:blipFill>
          <a:blip r:embed="rId5"/>
          <a:stretch/>
        </p:blipFill>
        <p:spPr>
          <a:xfrm>
            <a:off x="3011400" y="3649680"/>
            <a:ext cx="722520" cy="384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3" descr="C:\Documents and Settings\loukas.tzitzis\Desktop\WARID.jpg"/>
          <p:cNvPicPr/>
          <p:nvPr/>
        </p:nvPicPr>
        <p:blipFill>
          <a:blip r:embed="rId6"/>
          <a:stretch/>
        </p:blipFill>
        <p:spPr>
          <a:xfrm>
            <a:off x="7629480" y="3622680"/>
            <a:ext cx="406440" cy="33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" descr="Укрсоцбанк"/>
          <p:cNvPicPr/>
          <p:nvPr/>
        </p:nvPicPr>
        <p:blipFill>
          <a:blip r:embed="rId7"/>
          <a:stretch/>
        </p:blipFill>
        <p:spPr>
          <a:xfrm>
            <a:off x="2951280" y="1719360"/>
            <a:ext cx="903240" cy="3366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3" descr="Московский банк Реконструкции и Развития"/>
          <p:cNvPicPr/>
          <p:nvPr/>
        </p:nvPicPr>
        <p:blipFill>
          <a:blip r:embed="rId8"/>
          <a:stretch/>
        </p:blipFill>
        <p:spPr>
          <a:xfrm>
            <a:off x="2098800" y="1717560"/>
            <a:ext cx="672840" cy="27144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16"/>
          <p:cNvSpPr/>
          <p:nvPr/>
        </p:nvSpPr>
        <p:spPr>
          <a:xfrm>
            <a:off x="250920" y="1673280"/>
            <a:ext cx="1689120" cy="765000"/>
          </a:xfrm>
          <a:prstGeom prst="roundRect">
            <a:avLst>
              <a:gd name="adj" fmla="val 10574"/>
            </a:avLst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Финансов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96a6c"/>
                </a:solidFill>
                <a:latin typeface="Arial"/>
                <a:ea typeface="Arial"/>
              </a:rPr>
              <a:t>се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7"/>
          <p:cNvSpPr/>
          <p:nvPr/>
        </p:nvSpPr>
        <p:spPr>
          <a:xfrm>
            <a:off x="250920" y="4643280"/>
            <a:ext cx="1689120" cy="765360"/>
          </a:xfrm>
          <a:prstGeom prst="roundRect">
            <a:avLst>
              <a:gd name="adj" fmla="val 10574"/>
            </a:avLst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8"/>
          <p:cNvSpPr/>
          <p:nvPr/>
        </p:nvSpPr>
        <p:spPr>
          <a:xfrm>
            <a:off x="250920" y="2617920"/>
            <a:ext cx="1689120" cy="855360"/>
          </a:xfrm>
          <a:prstGeom prst="roundRect">
            <a:avLst>
              <a:gd name="adj" fmla="val 10574"/>
            </a:avLst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Промышленность и энерге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9"/>
          <p:cNvSpPr/>
          <p:nvPr/>
        </p:nvSpPr>
        <p:spPr>
          <a:xfrm>
            <a:off x="250920" y="3608280"/>
            <a:ext cx="1689120" cy="855720"/>
          </a:xfrm>
          <a:prstGeom prst="roundRect">
            <a:avLst>
              <a:gd name="adj" fmla="val 10574"/>
            </a:avLst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96a6c"/>
                </a:solidFill>
                <a:latin typeface="Arial"/>
                <a:ea typeface="Arial"/>
              </a:rPr>
              <a:t>Телекоммун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0" descr="Vodafone"/>
          <p:cNvPicPr/>
          <p:nvPr/>
        </p:nvPicPr>
        <p:blipFill>
          <a:blip r:embed="rId9"/>
          <a:stretch/>
        </p:blipFill>
        <p:spPr>
          <a:xfrm>
            <a:off x="5607000" y="3608280"/>
            <a:ext cx="604800" cy="370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1" descr=""/>
          <p:cNvPicPr/>
          <p:nvPr/>
        </p:nvPicPr>
        <p:blipFill>
          <a:blip r:embed="rId10"/>
          <a:stretch/>
        </p:blipFill>
        <p:spPr>
          <a:xfrm>
            <a:off x="4761000" y="1719360"/>
            <a:ext cx="396720" cy="404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2" descr=""/>
          <p:cNvPicPr/>
          <p:nvPr/>
        </p:nvPicPr>
        <p:blipFill>
          <a:blip r:embed="rId11"/>
          <a:stretch/>
        </p:blipFill>
        <p:spPr>
          <a:xfrm>
            <a:off x="3986280" y="2197080"/>
            <a:ext cx="1170000" cy="287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3" descr=""/>
          <p:cNvPicPr/>
          <p:nvPr/>
        </p:nvPicPr>
        <p:blipFill>
          <a:blip r:embed="rId12"/>
          <a:stretch/>
        </p:blipFill>
        <p:spPr>
          <a:xfrm>
            <a:off x="2097000" y="2128680"/>
            <a:ext cx="706680" cy="220680"/>
          </a:xfrm>
          <a:prstGeom prst="rect">
            <a:avLst/>
          </a:prstGeom>
          <a:ln w="0">
            <a:noFill/>
          </a:ln>
        </p:spPr>
      </p:pic>
      <p:grpSp>
        <p:nvGrpSpPr>
          <p:cNvPr id="383" name="Group 24"/>
          <p:cNvGrpSpPr/>
          <p:nvPr/>
        </p:nvGrpSpPr>
        <p:grpSpPr>
          <a:xfrm>
            <a:off x="3041640" y="4915080"/>
            <a:ext cx="882720" cy="494640"/>
            <a:chOff x="3041640" y="4915080"/>
            <a:chExt cx="882720" cy="494640"/>
          </a:xfrm>
        </p:grpSpPr>
        <p:pic>
          <p:nvPicPr>
            <p:cNvPr id="384" name="Picture 25" descr=""/>
            <p:cNvPicPr/>
            <p:nvPr/>
          </p:nvPicPr>
          <p:blipFill>
            <a:blip r:embed="rId13"/>
            <a:stretch/>
          </p:blipFill>
          <p:spPr>
            <a:xfrm>
              <a:off x="3305880" y="4915080"/>
              <a:ext cx="317160" cy="39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26" descr=""/>
            <p:cNvPicPr/>
            <p:nvPr/>
          </p:nvPicPr>
          <p:blipFill>
            <a:blip r:embed="rId14"/>
            <a:stretch/>
          </p:blipFill>
          <p:spPr>
            <a:xfrm>
              <a:off x="3041640" y="5311800"/>
              <a:ext cx="882720" cy="9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6" name="Picture 27" descr=""/>
          <p:cNvPicPr/>
          <p:nvPr/>
        </p:nvPicPr>
        <p:blipFill>
          <a:blip r:embed="rId15"/>
          <a:stretch/>
        </p:blipFill>
        <p:spPr>
          <a:xfrm>
            <a:off x="3875040" y="4653000"/>
            <a:ext cx="292320" cy="396720"/>
          </a:xfrm>
          <a:prstGeom prst="rect">
            <a:avLst/>
          </a:prstGeom>
          <a:ln w="0">
            <a:noFill/>
          </a:ln>
        </p:spPr>
      </p:pic>
      <p:sp>
        <p:nvSpPr>
          <p:cNvPr id="387" name="WordArt 28"/>
          <p:cNvSpPr txBox="1"/>
          <p:nvPr/>
        </p:nvSpPr>
        <p:spPr>
          <a:xfrm>
            <a:off x="4363920" y="4809960"/>
            <a:ext cx="703440" cy="239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66ff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Правительство</a:t>
            </a:r>
            <a:endParaRPr b="1" lang="en-US" sz="1800" spc="1" strike="noStrike">
              <a:ln w="9360">
                <a:solidFill>
                  <a:srgbClr val="6666ff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66ff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Украины</a:t>
            </a:r>
            <a:endParaRPr b="1" lang="en-US" sz="1800" spc="1" strike="noStrike">
              <a:ln w="9360">
                <a:solidFill>
                  <a:srgbClr val="6666ff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pic>
        <p:nvPicPr>
          <p:cNvPr id="388" name="Picture 29" descr=""/>
          <p:cNvPicPr/>
          <p:nvPr/>
        </p:nvPicPr>
        <p:blipFill>
          <a:blip r:embed="rId16"/>
          <a:stretch/>
        </p:blipFill>
        <p:spPr>
          <a:xfrm>
            <a:off x="2502000" y="2619360"/>
            <a:ext cx="619200" cy="5889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0" descr=""/>
          <p:cNvPicPr/>
          <p:nvPr/>
        </p:nvPicPr>
        <p:blipFill>
          <a:blip r:embed="rId17"/>
          <a:stretch/>
        </p:blipFill>
        <p:spPr>
          <a:xfrm>
            <a:off x="3927600" y="2671920"/>
            <a:ext cx="1004760" cy="306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1" descr=""/>
          <p:cNvPicPr/>
          <p:nvPr/>
        </p:nvPicPr>
        <p:blipFill>
          <a:blip r:embed="rId18"/>
          <a:stretch/>
        </p:blipFill>
        <p:spPr>
          <a:xfrm>
            <a:off x="2127240" y="3103560"/>
            <a:ext cx="1004760" cy="2350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2" descr=""/>
          <p:cNvPicPr/>
          <p:nvPr/>
        </p:nvPicPr>
        <p:blipFill>
          <a:blip r:embed="rId19"/>
          <a:stretch/>
        </p:blipFill>
        <p:spPr>
          <a:xfrm>
            <a:off x="6867360" y="3024360"/>
            <a:ext cx="720720" cy="336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3" descr=""/>
          <p:cNvPicPr/>
          <p:nvPr/>
        </p:nvPicPr>
        <p:blipFill>
          <a:blip r:embed="rId20"/>
          <a:stretch/>
        </p:blipFill>
        <p:spPr>
          <a:xfrm>
            <a:off x="3971880" y="2978280"/>
            <a:ext cx="876240" cy="3855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4" descr=""/>
          <p:cNvPicPr/>
          <p:nvPr/>
        </p:nvPicPr>
        <p:blipFill>
          <a:blip r:embed="rId21"/>
          <a:stretch/>
        </p:blipFill>
        <p:spPr>
          <a:xfrm>
            <a:off x="8182080" y="4157640"/>
            <a:ext cx="664920" cy="120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5" descr=""/>
          <p:cNvPicPr/>
          <p:nvPr/>
        </p:nvPicPr>
        <p:blipFill>
          <a:blip r:embed="rId22"/>
          <a:stretch/>
        </p:blipFill>
        <p:spPr>
          <a:xfrm>
            <a:off x="8147160" y="4267080"/>
            <a:ext cx="682560" cy="196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7" descr="OTE_logo_GOOD"/>
          <p:cNvPicPr/>
          <p:nvPr/>
        </p:nvPicPr>
        <p:blipFill>
          <a:blip r:embed="rId23"/>
          <a:stretch/>
        </p:blipFill>
        <p:spPr>
          <a:xfrm>
            <a:off x="6308640" y="3652920"/>
            <a:ext cx="501840" cy="317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9" descr="COSMOTE_NEW_other"/>
          <p:cNvPicPr/>
          <p:nvPr/>
        </p:nvPicPr>
        <p:blipFill>
          <a:blip r:embed="rId24"/>
          <a:stretch/>
        </p:blipFill>
        <p:spPr>
          <a:xfrm>
            <a:off x="8201160" y="3622680"/>
            <a:ext cx="645840" cy="2491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0" descr=""/>
          <p:cNvPicPr/>
          <p:nvPr/>
        </p:nvPicPr>
        <p:blipFill>
          <a:blip r:embed="rId25"/>
          <a:stretch/>
        </p:blipFill>
        <p:spPr>
          <a:xfrm>
            <a:off x="7126200" y="4238640"/>
            <a:ext cx="847800" cy="2030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1" descr="Athens_2004"/>
          <p:cNvPicPr/>
          <p:nvPr/>
        </p:nvPicPr>
        <p:blipFill>
          <a:blip r:embed="rId26"/>
          <a:stretch/>
        </p:blipFill>
        <p:spPr>
          <a:xfrm>
            <a:off x="5816520" y="4778280"/>
            <a:ext cx="525600" cy="584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2" descr="aia"/>
          <p:cNvPicPr/>
          <p:nvPr/>
        </p:nvPicPr>
        <p:blipFill>
          <a:blip r:embed="rId27"/>
          <a:stretch/>
        </p:blipFill>
        <p:spPr>
          <a:xfrm>
            <a:off x="6777000" y="2708280"/>
            <a:ext cx="912960" cy="2412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3" descr="Intralot_logo"/>
          <p:cNvPicPr/>
          <p:nvPr/>
        </p:nvPicPr>
        <p:blipFill>
          <a:blip r:embed="rId28"/>
          <a:stretch/>
        </p:blipFill>
        <p:spPr>
          <a:xfrm>
            <a:off x="5648400" y="2224080"/>
            <a:ext cx="1084320" cy="2412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4" descr="Opap_logo-from-site"/>
          <p:cNvPicPr/>
          <p:nvPr/>
        </p:nvPicPr>
        <p:blipFill>
          <a:blip r:embed="rId29"/>
          <a:stretch/>
        </p:blipFill>
        <p:spPr>
          <a:xfrm>
            <a:off x="7518240" y="1698480"/>
            <a:ext cx="698760" cy="346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5" descr="home_01"/>
          <p:cNvPicPr/>
          <p:nvPr/>
        </p:nvPicPr>
        <p:blipFill>
          <a:blip r:embed="rId30"/>
          <a:srcRect l="1313" t="19244" r="70957" b="0"/>
          <a:stretch/>
        </p:blipFill>
        <p:spPr>
          <a:xfrm>
            <a:off x="7072200" y="2133720"/>
            <a:ext cx="1460520" cy="271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6" descr="HT_Telekom_Croatia_NEW"/>
          <p:cNvPicPr/>
          <p:nvPr/>
        </p:nvPicPr>
        <p:blipFill>
          <a:blip r:embed="rId31"/>
          <a:stretch/>
        </p:blipFill>
        <p:spPr>
          <a:xfrm>
            <a:off x="8199360" y="3878280"/>
            <a:ext cx="619200" cy="177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7" descr="mtc_mobile-telecom_kuwait"/>
          <p:cNvPicPr/>
          <p:nvPr/>
        </p:nvPicPr>
        <p:blipFill>
          <a:blip r:embed="rId32"/>
          <a:stretch/>
        </p:blipFill>
        <p:spPr>
          <a:xfrm>
            <a:off x="6303960" y="4165560"/>
            <a:ext cx="476280" cy="306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8" descr=""/>
          <p:cNvPicPr/>
          <p:nvPr/>
        </p:nvPicPr>
        <p:blipFill>
          <a:blip r:embed="rId33"/>
          <a:stretch/>
        </p:blipFill>
        <p:spPr>
          <a:xfrm>
            <a:off x="3406680" y="4181400"/>
            <a:ext cx="1046160" cy="195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9" descr="Saudi-Telecom_logo"/>
          <p:cNvPicPr/>
          <p:nvPr/>
        </p:nvPicPr>
        <p:blipFill>
          <a:blip r:embed="rId34"/>
          <a:stretch/>
        </p:blipFill>
        <p:spPr>
          <a:xfrm>
            <a:off x="6031080" y="4013280"/>
            <a:ext cx="666720" cy="150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0" descr="ste-logo"/>
          <p:cNvPicPr/>
          <p:nvPr/>
        </p:nvPicPr>
        <p:blipFill>
          <a:blip r:embed="rId35"/>
          <a:stretch/>
        </p:blipFill>
        <p:spPr>
          <a:xfrm>
            <a:off x="6902280" y="3622680"/>
            <a:ext cx="603360" cy="2952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2" descr=""/>
          <p:cNvPicPr/>
          <p:nvPr/>
        </p:nvPicPr>
        <p:blipFill>
          <a:blip r:embed="rId36"/>
          <a:stretch/>
        </p:blipFill>
        <p:spPr>
          <a:xfrm>
            <a:off x="5700600" y="4030560"/>
            <a:ext cx="276480" cy="405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3" descr=""/>
          <p:cNvPicPr/>
          <p:nvPr/>
        </p:nvPicPr>
        <p:blipFill>
          <a:blip r:embed="rId37"/>
          <a:stretch/>
        </p:blipFill>
        <p:spPr>
          <a:xfrm>
            <a:off x="3691080" y="3608280"/>
            <a:ext cx="807840" cy="4255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4" descr=""/>
          <p:cNvPicPr/>
          <p:nvPr/>
        </p:nvPicPr>
        <p:blipFill>
          <a:blip r:embed="rId38"/>
          <a:stretch/>
        </p:blipFill>
        <p:spPr>
          <a:xfrm>
            <a:off x="4503600" y="3649680"/>
            <a:ext cx="579600" cy="3841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5" descr=""/>
          <p:cNvPicPr/>
          <p:nvPr/>
        </p:nvPicPr>
        <p:blipFill>
          <a:blip r:embed="rId39"/>
          <a:stretch/>
        </p:blipFill>
        <p:spPr>
          <a:xfrm>
            <a:off x="4587840" y="4094280"/>
            <a:ext cx="476280" cy="3715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6" descr=""/>
          <p:cNvPicPr/>
          <p:nvPr/>
        </p:nvPicPr>
        <p:blipFill>
          <a:blip r:embed="rId40"/>
          <a:stretch/>
        </p:blipFill>
        <p:spPr>
          <a:xfrm>
            <a:off x="2232000" y="4167360"/>
            <a:ext cx="1050840" cy="231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7" descr=""/>
          <p:cNvPicPr/>
          <p:nvPr/>
        </p:nvPicPr>
        <p:blipFill>
          <a:blip r:embed="rId41"/>
          <a:stretch/>
        </p:blipFill>
        <p:spPr>
          <a:xfrm>
            <a:off x="7812000" y="2890800"/>
            <a:ext cx="701640" cy="3571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8" descr="ЕЛФБ Hellenic Post"/>
          <p:cNvPicPr/>
          <p:nvPr/>
        </p:nvPicPr>
        <p:blipFill>
          <a:blip r:embed="rId42"/>
          <a:stretch/>
        </p:blipFill>
        <p:spPr>
          <a:xfrm>
            <a:off x="6777000" y="4822920"/>
            <a:ext cx="720720" cy="514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9" descr="National Bank of Greece"/>
          <p:cNvPicPr/>
          <p:nvPr/>
        </p:nvPicPr>
        <p:blipFill>
          <a:blip r:embed="rId43"/>
          <a:stretch/>
        </p:blipFill>
        <p:spPr>
          <a:xfrm>
            <a:off x="5765760" y="1728720"/>
            <a:ext cx="650880" cy="441360"/>
          </a:xfrm>
          <a:prstGeom prst="rect">
            <a:avLst/>
          </a:prstGeom>
          <a:ln w="0">
            <a:noFill/>
          </a:ln>
        </p:spPr>
      </p:pic>
      <p:sp>
        <p:nvSpPr>
          <p:cNvPr id="416" name="Line 101"/>
          <p:cNvSpPr/>
          <p:nvPr/>
        </p:nvSpPr>
        <p:spPr>
          <a:xfrm>
            <a:off x="260280" y="2529000"/>
            <a:ext cx="86774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01"/>
          <p:cNvSpPr/>
          <p:nvPr/>
        </p:nvSpPr>
        <p:spPr>
          <a:xfrm>
            <a:off x="250920" y="3564000"/>
            <a:ext cx="86770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01"/>
          <p:cNvSpPr/>
          <p:nvPr/>
        </p:nvSpPr>
        <p:spPr>
          <a:xfrm>
            <a:off x="250920" y="4554360"/>
            <a:ext cx="86770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5"/>
          <p:cNvSpPr/>
          <p:nvPr/>
        </p:nvSpPr>
        <p:spPr>
          <a:xfrm>
            <a:off x="0" y="5589720"/>
            <a:ext cx="6659640" cy="792000"/>
          </a:xfrm>
          <a:prstGeom prst="rect">
            <a:avLst/>
          </a:prstGeom>
          <a:solidFill>
            <a:srgbClr val="696a6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ctr">
            <a:noAutofit/>
          </a:bodyPr>
          <a:p>
            <a:pPr marL="358920" indent="-358920">
              <a:spcBef>
                <a:spcPts val="1749"/>
              </a:spcBef>
              <a:buClr>
                <a:srgbClr val="f0ca00"/>
              </a:buClr>
              <a:buSzPct val="13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Эффективность, надежность и качество предлагаемых решений доказана внедрениями в ведущих компаниях и организациях  в России и за рубеж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6"/>
          <p:cNvSpPr/>
          <p:nvPr/>
        </p:nvSpPr>
        <p:spPr>
          <a:xfrm>
            <a:off x="1962000" y="1268280"/>
            <a:ext cx="3194280" cy="316080"/>
          </a:xfrm>
          <a:prstGeom prst="rect">
            <a:avLst/>
          </a:prstGeom>
          <a:solidFill>
            <a:srgbClr val="f0ca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Россия и С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7"/>
          <p:cNvSpPr/>
          <p:nvPr/>
        </p:nvSpPr>
        <p:spPr>
          <a:xfrm>
            <a:off x="5292720" y="1268280"/>
            <a:ext cx="3598920" cy="316080"/>
          </a:xfrm>
          <a:prstGeom prst="rect">
            <a:avLst/>
          </a:prstGeom>
          <a:solidFill>
            <a:srgbClr val="f0ca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252360"/>
                <a:tab algn="l" pos="504720"/>
                <a:tab algn="l" pos="757080"/>
                <a:tab algn="l" pos="1009800"/>
                <a:tab algn="l" pos="1262160"/>
                <a:tab algn="l" pos="1514520"/>
                <a:tab algn="l" pos="1766880"/>
                <a:tab algn="l" pos="2019240"/>
                <a:tab algn="l" pos="2271600"/>
                <a:tab algn="l" pos="2523960"/>
                <a:tab algn="l" pos="2776680"/>
                <a:tab algn="l" pos="3029040"/>
                <a:tab algn="l" pos="3281400"/>
                <a:tab algn="l" pos="3533760"/>
                <a:tab algn="l" pos="3786120"/>
                <a:tab algn="l" pos="4038480"/>
                <a:tab algn="l" pos="4290840"/>
                <a:tab algn="l" pos="4543560"/>
                <a:tab algn="l" pos="4795920"/>
                <a:tab algn="l" pos="50482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вроп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зия, Аф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68" descr="Картинка 9 из 40"/>
          <p:cNvPicPr/>
          <p:nvPr/>
        </p:nvPicPr>
        <p:blipFill>
          <a:blip r:embed="rId44"/>
          <a:srcRect l="10561" t="11856" r="10750" b="23146"/>
          <a:stretch/>
        </p:blipFill>
        <p:spPr>
          <a:xfrm>
            <a:off x="5697360" y="2843280"/>
            <a:ext cx="900360" cy="3301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9" descr="Картинка 3 из 27"/>
          <p:cNvPicPr/>
          <p:nvPr/>
        </p:nvPicPr>
        <p:blipFill>
          <a:blip r:embed="rId45"/>
          <a:stretch/>
        </p:blipFill>
        <p:spPr>
          <a:xfrm>
            <a:off x="3267000" y="2843280"/>
            <a:ext cx="495360" cy="4856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1" descr="logo_ru"/>
          <p:cNvPicPr/>
          <p:nvPr/>
        </p:nvPicPr>
        <p:blipFill>
          <a:blip r:embed="rId46"/>
          <a:stretch/>
        </p:blipFill>
        <p:spPr>
          <a:xfrm>
            <a:off x="2997360" y="2124000"/>
            <a:ext cx="900000" cy="285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9" descr=""/>
          <p:cNvPicPr/>
          <p:nvPr/>
        </p:nvPicPr>
        <p:blipFill>
          <a:blip r:embed="rId47"/>
          <a:stretch/>
        </p:blipFill>
        <p:spPr>
          <a:xfrm>
            <a:off x="2681280" y="4734000"/>
            <a:ext cx="495360" cy="360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3" descr=""/>
          <p:cNvPicPr/>
          <p:nvPr/>
        </p:nvPicPr>
        <p:blipFill>
          <a:blip r:embed="rId48"/>
          <a:stretch/>
        </p:blipFill>
        <p:spPr>
          <a:xfrm>
            <a:off x="4076640" y="16858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4" descr=""/>
          <p:cNvPicPr/>
          <p:nvPr/>
        </p:nvPicPr>
        <p:blipFill>
          <a:blip r:embed="rId49"/>
          <a:stretch/>
        </p:blipFill>
        <p:spPr>
          <a:xfrm>
            <a:off x="7434360" y="3922560"/>
            <a:ext cx="531720" cy="233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5" descr=""/>
          <p:cNvPicPr/>
          <p:nvPr/>
        </p:nvPicPr>
        <p:blipFill>
          <a:blip r:embed="rId50"/>
          <a:stretch/>
        </p:blipFill>
        <p:spPr>
          <a:xfrm>
            <a:off x="6780240" y="4013280"/>
            <a:ext cx="547560" cy="18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DAFA5-DFA7-4181-899F-F9EBF0D780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5:04:41Z</dcterms:created>
  <dc:creator/>
  <dc:description/>
  <dc:language>en-US</dc:language>
  <cp:lastModifiedBy>filippov</cp:lastModifiedBy>
  <cp:lastPrinted>2009-08-12T11:54:41Z</cp:lastPrinted>
  <dcterms:modified xsi:type="dcterms:W3CDTF">2009-11-30T16:00:03Z</dcterms:modified>
  <cp:revision>306</cp:revision>
  <dc:subject/>
  <dc:title>Корпоративная презентация</dc:title>
</cp:coreProperties>
</file>